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473-56D9-4603-8BB6-26728A13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3E9-F63D-42BC-B196-5921949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403-6DC0-4A4F-9950-0F6A6A28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82C-7559-4BA6-B44B-8923F190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034-0F8E-49C0-9B86-5B752F0C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97C-E763-47A7-835E-A3E190A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9FA-17E9-4B1A-B8F9-9006064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C75-C3BC-47E9-AC44-7A841F7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8D8-05FD-4398-802B-BF9CBF1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C00-7F67-412B-B4E5-2A46061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7CE-6F29-49D1-8BD4-1B4F179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C08-96F2-4639-B51A-61E1D94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FDEA-59B8-4667-90C4-87B25969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Volume of a Right Rectangular P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472428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72200" y="2819520"/>
                <a:ext cx="1593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1066680" y="1510920"/>
            <a:ext cx="3846960" cy="2572920"/>
            <a:chOff x="1066680" y="1510920"/>
            <a:chExt cx="3846960" cy="2572920"/>
          </a:xfrm>
        </p:grpSpPr>
        <p:sp>
          <p:nvSpPr>
            <p:cNvPr id="167" name=""/>
            <p:cNvSpPr/>
            <p:nvPr/>
          </p:nvSpPr>
          <p:spPr>
            <a:xfrm rot="20584200">
              <a:off x="1756800" y="1905120"/>
              <a:ext cx="2967120" cy="1743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4920" y="3648600"/>
              <a:ext cx="9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2776680"/>
              <a:ext cx="4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42800" y="37155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248520" y="3505320"/>
                <a:ext cx="1295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05520" y="4876920"/>
                <a:ext cx="25146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188040" y="1500120"/>
            <a:ext cx="420840" cy="411120"/>
          </a:xfrm>
          <a:custGeom>
            <a:avLst/>
            <a:gdLst/>
            <a:ahLst/>
            <a:rect l="l" t="t" r="r" b="b"/>
            <a:pathLst>
              <a:path w="1166" h="1142">
                <a:moveTo>
                  <a:pt x="17214" y="4291"/>
                </a:moveTo>
                <a:cubicBezTo>
                  <a:pt x="17188" y="4486"/>
                  <a:pt x="17245" y="4620"/>
                  <a:pt x="17289" y="4812"/>
                </a:cubicBezTo>
                <a:cubicBezTo>
                  <a:pt x="17331" y="4993"/>
                  <a:pt x="17376" y="5126"/>
                  <a:pt x="17388" y="5308"/>
                </a:cubicBezTo>
                <a:cubicBezTo>
                  <a:pt x="17413" y="5133"/>
                  <a:pt x="17498" y="4959"/>
                  <a:pt x="17562" y="4787"/>
                </a:cubicBezTo>
                <a:cubicBezTo>
                  <a:pt x="17643" y="4569"/>
                  <a:pt x="17725" y="4357"/>
                  <a:pt x="17859" y="4167"/>
                </a:cubicBezTo>
              </a:path>
              <a:path w="1166" h="1142">
                <a:moveTo>
                  <a:pt x="18008" y="4688"/>
                </a:moveTo>
                <a:cubicBezTo>
                  <a:pt x="18144" y="4688"/>
                  <a:pt x="18340" y="4621"/>
                  <a:pt x="18355" y="4762"/>
                </a:cubicBezTo>
              </a:path>
              <a:path w="1166" h="1142">
                <a:moveTo>
                  <a:pt x="17959" y="5035"/>
                </a:moveTo>
                <a:cubicBezTo>
                  <a:pt x="18083" y="5018"/>
                  <a:pt x="18251" y="4981"/>
                  <a:pt x="18355" y="50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4000" y="1509840"/>
            <a:ext cx="9720" cy="392040"/>
          </a:xfrm>
          <a:custGeom>
            <a:avLst/>
            <a:gdLst/>
            <a:ahLst/>
            <a:rect l="l" t="t" r="r" b="b"/>
            <a:pathLst>
              <a:path w="26" h="1092">
                <a:moveTo>
                  <a:pt x="18926" y="4192"/>
                </a:moveTo>
                <a:cubicBezTo>
                  <a:pt x="18926" y="4541"/>
                  <a:pt x="18925" y="4887"/>
                  <a:pt x="18901" y="5234"/>
                </a:cubicBezTo>
                <a:cubicBezTo>
                  <a:pt x="18901" y="5275"/>
                  <a:pt x="18893" y="5291"/>
                  <a:pt x="18926" y="528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6280" y="1490760"/>
            <a:ext cx="652680" cy="438120"/>
          </a:xfrm>
          <a:custGeom>
            <a:avLst/>
            <a:gdLst/>
            <a:ahLst/>
            <a:rect l="l" t="t" r="r" b="b"/>
            <a:pathLst>
              <a:path w="1812" h="1217">
                <a:moveTo>
                  <a:pt x="19323" y="4787"/>
                </a:moveTo>
                <a:cubicBezTo>
                  <a:pt x="19323" y="4671"/>
                  <a:pt x="19323" y="4969"/>
                  <a:pt x="19323" y="5085"/>
                </a:cubicBezTo>
                <a:cubicBezTo>
                  <a:pt x="19323" y="5201"/>
                  <a:pt x="19299" y="5276"/>
                  <a:pt x="19348" y="5358"/>
                </a:cubicBezTo>
                <a:cubicBezTo>
                  <a:pt x="19442" y="5228"/>
                  <a:pt x="19521" y="5103"/>
                  <a:pt x="19596" y="4961"/>
                </a:cubicBezTo>
                <a:cubicBezTo>
                  <a:pt x="19573" y="5143"/>
                  <a:pt x="19583" y="5200"/>
                  <a:pt x="19670" y="5358"/>
                </a:cubicBezTo>
                <a:cubicBezTo>
                  <a:pt x="19874" y="5319"/>
                  <a:pt x="20078" y="5247"/>
                  <a:pt x="20042" y="4986"/>
                </a:cubicBezTo>
                <a:cubicBezTo>
                  <a:pt x="20001" y="4903"/>
                  <a:pt x="19993" y="4887"/>
                  <a:pt x="19968" y="4837"/>
                </a:cubicBezTo>
              </a:path>
              <a:path w="1812" h="1217">
                <a:moveTo>
                  <a:pt x="20340" y="4142"/>
                </a:moveTo>
                <a:cubicBezTo>
                  <a:pt x="20340" y="4442"/>
                  <a:pt x="20382" y="4735"/>
                  <a:pt x="20389" y="5035"/>
                </a:cubicBezTo>
                <a:cubicBezTo>
                  <a:pt x="20389" y="5168"/>
                  <a:pt x="20389" y="5184"/>
                  <a:pt x="20389" y="5259"/>
                </a:cubicBezTo>
                <a:cubicBezTo>
                  <a:pt x="20435" y="5134"/>
                  <a:pt x="20448" y="4986"/>
                  <a:pt x="20513" y="4862"/>
                </a:cubicBezTo>
                <a:cubicBezTo>
                  <a:pt x="20545" y="4801"/>
                  <a:pt x="20626" y="4728"/>
                  <a:pt x="20662" y="4688"/>
                </a:cubicBezTo>
                <a:cubicBezTo>
                  <a:pt x="20783" y="4836"/>
                  <a:pt x="20793" y="4948"/>
                  <a:pt x="20811" y="5135"/>
                </a:cubicBezTo>
                <a:cubicBezTo>
                  <a:pt x="20826" y="5286"/>
                  <a:pt x="20990" y="5193"/>
                  <a:pt x="21084" y="5159"/>
                </a:cubicBezTo>
                <a:cubicBezTo>
                  <a:pt x="21101" y="5151"/>
                  <a:pt x="21117" y="5143"/>
                  <a:pt x="21134" y="51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00880" y="2044800"/>
            <a:ext cx="938160" cy="411120"/>
          </a:xfrm>
          <a:custGeom>
            <a:avLst/>
            <a:gdLst/>
            <a:ahLst/>
            <a:rect l="l" t="t" r="r" b="b"/>
            <a:pathLst>
              <a:path w="2605" h="1142">
                <a:moveTo>
                  <a:pt x="18058" y="6400"/>
                </a:moveTo>
                <a:cubicBezTo>
                  <a:pt x="18174" y="6377"/>
                  <a:pt x="18207" y="6370"/>
                  <a:pt x="18281" y="6350"/>
                </a:cubicBezTo>
              </a:path>
              <a:path w="2605" h="1142">
                <a:moveTo>
                  <a:pt x="18281" y="6350"/>
                </a:moveTo>
                <a:lnTo>
                  <a:pt x="18281" y="6350"/>
                </a:lnTo>
              </a:path>
              <a:path w="2605" h="1142">
                <a:moveTo>
                  <a:pt x="19224" y="6003"/>
                </a:moveTo>
                <a:cubicBezTo>
                  <a:pt x="19173" y="6249"/>
                  <a:pt x="19087" y="6454"/>
                  <a:pt x="19248" y="6648"/>
                </a:cubicBezTo>
                <a:cubicBezTo>
                  <a:pt x="19423" y="6473"/>
                  <a:pt x="19554" y="6273"/>
                  <a:pt x="19372" y="6028"/>
                </a:cubicBezTo>
                <a:cubicBezTo>
                  <a:pt x="19339" y="6011"/>
                  <a:pt x="19306" y="5995"/>
                  <a:pt x="19273" y="5978"/>
                </a:cubicBezTo>
              </a:path>
              <a:path w="2605" h="1142">
                <a:moveTo>
                  <a:pt x="19769" y="5680"/>
                </a:moveTo>
                <a:cubicBezTo>
                  <a:pt x="19714" y="5965"/>
                  <a:pt x="19495" y="6503"/>
                  <a:pt x="19695" y="6772"/>
                </a:cubicBezTo>
                <a:cubicBezTo>
                  <a:pt x="19829" y="6804"/>
                  <a:pt x="19888" y="6787"/>
                  <a:pt x="19943" y="6648"/>
                </a:cubicBezTo>
              </a:path>
              <a:path w="2605" h="1142">
                <a:moveTo>
                  <a:pt x="20414" y="5779"/>
                </a:moveTo>
                <a:cubicBezTo>
                  <a:pt x="20585" y="6100"/>
                  <a:pt x="20843" y="6503"/>
                  <a:pt x="20439" y="6796"/>
                </a:cubicBezTo>
                <a:cubicBezTo>
                  <a:pt x="20389" y="6804"/>
                  <a:pt x="20340" y="6813"/>
                  <a:pt x="20290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2027160"/>
            <a:ext cx="785880" cy="330120"/>
          </a:xfrm>
          <a:custGeom>
            <a:avLst/>
            <a:gdLst/>
            <a:ahLst/>
            <a:rect l="l" t="t" r="r" b="b"/>
            <a:pathLst>
              <a:path w="2184" h="918">
                <a:moveTo>
                  <a:pt x="16371" y="5804"/>
                </a:moveTo>
                <a:cubicBezTo>
                  <a:pt x="16344" y="5804"/>
                  <a:pt x="16385" y="5757"/>
                  <a:pt x="16421" y="5680"/>
                </a:cubicBezTo>
                <a:cubicBezTo>
                  <a:pt x="16758" y="5681"/>
                  <a:pt x="16839" y="6029"/>
                  <a:pt x="16644" y="6350"/>
                </a:cubicBezTo>
                <a:cubicBezTo>
                  <a:pt x="16466" y="6643"/>
                  <a:pt x="16287" y="6544"/>
                  <a:pt x="16098" y="6424"/>
                </a:cubicBezTo>
                <a:cubicBezTo>
                  <a:pt x="16223" y="6151"/>
                  <a:pt x="16461" y="6072"/>
                  <a:pt x="16743" y="6300"/>
                </a:cubicBezTo>
                <a:cubicBezTo>
                  <a:pt x="16802" y="6397"/>
                  <a:pt x="16827" y="6407"/>
                  <a:pt x="16818" y="6474"/>
                </a:cubicBezTo>
              </a:path>
              <a:path w="2184" h="918">
                <a:moveTo>
                  <a:pt x="17041" y="5755"/>
                </a:moveTo>
                <a:cubicBezTo>
                  <a:pt x="17041" y="5886"/>
                  <a:pt x="17017" y="6039"/>
                  <a:pt x="17066" y="6152"/>
                </a:cubicBezTo>
                <a:cubicBezTo>
                  <a:pt x="17226" y="6095"/>
                  <a:pt x="17270" y="6053"/>
                  <a:pt x="17388" y="5928"/>
                </a:cubicBezTo>
              </a:path>
              <a:path w="2184" h="918">
                <a:moveTo>
                  <a:pt x="17338" y="5655"/>
                </a:moveTo>
                <a:cubicBezTo>
                  <a:pt x="17332" y="5937"/>
                  <a:pt x="17314" y="6217"/>
                  <a:pt x="17314" y="6499"/>
                </a:cubicBezTo>
              </a:path>
              <a:path w="2184" h="918">
                <a:moveTo>
                  <a:pt x="17512" y="5829"/>
                </a:moveTo>
                <a:cubicBezTo>
                  <a:pt x="17464" y="6109"/>
                  <a:pt x="17391" y="6309"/>
                  <a:pt x="17611" y="6499"/>
                </a:cubicBezTo>
                <a:cubicBezTo>
                  <a:pt x="17751" y="6326"/>
                  <a:pt x="17908" y="6045"/>
                  <a:pt x="17686" y="5829"/>
                </a:cubicBezTo>
                <a:cubicBezTo>
                  <a:pt x="17594" y="5806"/>
                  <a:pt x="17569" y="5795"/>
                  <a:pt x="17512" y="5829"/>
                </a:cubicBezTo>
              </a:path>
              <a:path w="2184" h="918">
                <a:moveTo>
                  <a:pt x="18033" y="6127"/>
                </a:moveTo>
                <a:cubicBezTo>
                  <a:pt x="18120" y="6147"/>
                  <a:pt x="18191" y="6152"/>
                  <a:pt x="18281" y="615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3720" y="2143080"/>
            <a:ext cx="9360" cy="241200"/>
          </a:xfrm>
          <a:custGeom>
            <a:avLst/>
            <a:gdLst/>
            <a:ahLst/>
            <a:rect l="l" t="t" r="r" b="b"/>
            <a:pathLst>
              <a:path w="26" h="671">
                <a:moveTo>
                  <a:pt x="18951" y="5953"/>
                </a:moveTo>
                <a:cubicBezTo>
                  <a:pt x="18951" y="6131"/>
                  <a:pt x="18957" y="6506"/>
                  <a:pt x="18926" y="65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1120" y="2170080"/>
            <a:ext cx="135000" cy="214200"/>
          </a:xfrm>
          <a:custGeom>
            <a:avLst/>
            <a:gdLst/>
            <a:ahLst/>
            <a:rect l="l" t="t" r="r" b="b"/>
            <a:pathLst>
              <a:path w="373" h="596">
                <a:moveTo>
                  <a:pt x="19893" y="6077"/>
                </a:moveTo>
                <a:cubicBezTo>
                  <a:pt x="19974" y="6048"/>
                  <a:pt x="20249" y="5974"/>
                  <a:pt x="20166" y="6176"/>
                </a:cubicBezTo>
                <a:cubicBezTo>
                  <a:pt x="20088" y="6273"/>
                  <a:pt x="20086" y="6299"/>
                  <a:pt x="20017" y="6325"/>
                </a:cubicBezTo>
                <a:cubicBezTo>
                  <a:pt x="20104" y="6310"/>
                  <a:pt x="20331" y="6253"/>
                  <a:pt x="20265" y="6449"/>
                </a:cubicBezTo>
                <a:cubicBezTo>
                  <a:pt x="20206" y="6624"/>
                  <a:pt x="20031" y="6592"/>
                  <a:pt x="19918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6040" y="2017800"/>
            <a:ext cx="214200" cy="376200"/>
          </a:xfrm>
          <a:custGeom>
            <a:avLst/>
            <a:gdLst/>
            <a:ahLst/>
            <a:rect l="l" t="t" r="r" b="b"/>
            <a:pathLst>
              <a:path w="596" h="1043">
                <a:moveTo>
                  <a:pt x="20737" y="5606"/>
                </a:moveTo>
                <a:cubicBezTo>
                  <a:pt x="20809" y="5888"/>
                  <a:pt x="20945" y="6251"/>
                  <a:pt x="20886" y="6548"/>
                </a:cubicBezTo>
                <a:cubicBezTo>
                  <a:pt x="20878" y="6540"/>
                  <a:pt x="20869" y="6532"/>
                  <a:pt x="20861" y="6524"/>
                </a:cubicBezTo>
                <a:cubicBezTo>
                  <a:pt x="20886" y="6335"/>
                  <a:pt x="20921" y="6253"/>
                  <a:pt x="21034" y="6102"/>
                </a:cubicBezTo>
                <a:cubicBezTo>
                  <a:pt x="21209" y="6245"/>
                  <a:pt x="21094" y="6407"/>
                  <a:pt x="21208" y="6598"/>
                </a:cubicBezTo>
                <a:cubicBezTo>
                  <a:pt x="21273" y="6642"/>
                  <a:pt x="21287" y="6663"/>
                  <a:pt x="21332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Find the volume of a Right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olume V of a right rectangular prism is the product of the length, width, and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V=l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olume V of a right rectangular prism can also be found by multiplying the area of the base B by the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V=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0760" y="5000760"/>
            <a:ext cx="1536480" cy="750600"/>
          </a:xfrm>
          <a:custGeom>
            <a:avLst/>
            <a:gdLst/>
            <a:ahLst/>
            <a:rect l="l" t="t" r="r" b="b"/>
            <a:pathLst>
              <a:path w="4268" h="2084">
                <a:moveTo>
                  <a:pt x="10641" y="14039"/>
                </a:moveTo>
                <a:cubicBezTo>
                  <a:pt x="10665" y="14212"/>
                  <a:pt x="10679" y="14337"/>
                  <a:pt x="10691" y="14511"/>
                </a:cubicBezTo>
                <a:cubicBezTo>
                  <a:pt x="10722" y="14984"/>
                  <a:pt x="10701" y="15430"/>
                  <a:pt x="10666" y="15900"/>
                </a:cubicBezTo>
                <a:cubicBezTo>
                  <a:pt x="10666" y="15925"/>
                  <a:pt x="10666" y="15949"/>
                  <a:pt x="10666" y="15974"/>
                </a:cubicBezTo>
                <a:cubicBezTo>
                  <a:pt x="10806" y="15956"/>
                  <a:pt x="10945" y="15937"/>
                  <a:pt x="11088" y="15925"/>
                </a:cubicBezTo>
                <a:cubicBezTo>
                  <a:pt x="11847" y="15860"/>
                  <a:pt x="12610" y="15862"/>
                  <a:pt x="13370" y="15825"/>
                </a:cubicBezTo>
                <a:cubicBezTo>
                  <a:pt x="13616" y="15813"/>
                  <a:pt x="13872" y="15789"/>
                  <a:pt x="14114" y="15776"/>
                </a:cubicBezTo>
                <a:cubicBezTo>
                  <a:pt x="14193" y="15772"/>
                  <a:pt x="14264" y="15757"/>
                  <a:pt x="14337" y="15751"/>
                </a:cubicBezTo>
                <a:cubicBezTo>
                  <a:pt x="14457" y="15741"/>
                  <a:pt x="14566" y="15710"/>
                  <a:pt x="14684" y="15701"/>
                </a:cubicBezTo>
                <a:cubicBezTo>
                  <a:pt x="14758" y="15695"/>
                  <a:pt x="14834" y="15701"/>
                  <a:pt x="14908" y="15701"/>
                </a:cubicBezTo>
                <a:cubicBezTo>
                  <a:pt x="14900" y="15526"/>
                  <a:pt x="14881" y="15354"/>
                  <a:pt x="14858" y="15180"/>
                </a:cubicBezTo>
                <a:cubicBezTo>
                  <a:pt x="14824" y="14925"/>
                  <a:pt x="14841" y="14689"/>
                  <a:pt x="14858" y="14436"/>
                </a:cubicBezTo>
                <a:cubicBezTo>
                  <a:pt x="14868" y="14287"/>
                  <a:pt x="14881" y="14158"/>
                  <a:pt x="14858" y="14015"/>
                </a:cubicBezTo>
                <a:cubicBezTo>
                  <a:pt x="14849" y="13961"/>
                  <a:pt x="14858" y="13968"/>
                  <a:pt x="14833" y="13940"/>
                </a:cubicBezTo>
                <a:cubicBezTo>
                  <a:pt x="14744" y="13840"/>
                  <a:pt x="14497" y="13902"/>
                  <a:pt x="14387" y="13915"/>
                </a:cubicBezTo>
                <a:cubicBezTo>
                  <a:pt x="14177" y="13940"/>
                  <a:pt x="13955" y="13979"/>
                  <a:pt x="13742" y="13965"/>
                </a:cubicBezTo>
                <a:cubicBezTo>
                  <a:pt x="13525" y="13951"/>
                  <a:pt x="13315" y="13940"/>
                  <a:pt x="13097" y="13940"/>
                </a:cubicBezTo>
                <a:cubicBezTo>
                  <a:pt x="12797" y="13940"/>
                  <a:pt x="12501" y="13947"/>
                  <a:pt x="12204" y="13965"/>
                </a:cubicBezTo>
                <a:cubicBezTo>
                  <a:pt x="12006" y="13977"/>
                  <a:pt x="11806" y="13967"/>
                  <a:pt x="11609" y="13990"/>
                </a:cubicBezTo>
                <a:cubicBezTo>
                  <a:pt x="11486" y="14004"/>
                  <a:pt x="11357" y="14016"/>
                  <a:pt x="11237" y="14039"/>
                </a:cubicBezTo>
                <a:cubicBezTo>
                  <a:pt x="11163" y="14053"/>
                  <a:pt x="11053" y="14083"/>
                  <a:pt x="10988" y="14089"/>
                </a:cubicBezTo>
                <a:cubicBezTo>
                  <a:pt x="10869" y="14100"/>
                  <a:pt x="10758" y="14094"/>
                  <a:pt x="10641" y="141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34040" y="1465200"/>
            <a:ext cx="723960" cy="785880"/>
          </a:xfrm>
          <a:custGeom>
            <a:avLst/>
            <a:gdLst/>
            <a:ahLst/>
            <a:rect l="l" t="t" r="r" b="b"/>
            <a:pathLst>
              <a:path w="2010" h="2184">
                <a:moveTo>
                  <a:pt x="17983" y="4068"/>
                </a:moveTo>
                <a:cubicBezTo>
                  <a:pt x="18039" y="4413"/>
                  <a:pt x="18074" y="4761"/>
                  <a:pt x="18107" y="5110"/>
                </a:cubicBezTo>
                <a:cubicBezTo>
                  <a:pt x="18114" y="5188"/>
                  <a:pt x="18236" y="6442"/>
                  <a:pt x="18157" y="6127"/>
                </a:cubicBezTo>
              </a:path>
              <a:path w="2010" h="2184">
                <a:moveTo>
                  <a:pt x="17041" y="5556"/>
                </a:moveTo>
                <a:cubicBezTo>
                  <a:pt x="17671" y="5294"/>
                  <a:pt x="18285" y="5104"/>
                  <a:pt x="18951" y="4961"/>
                </a:cubicBezTo>
                <a:cubicBezTo>
                  <a:pt x="19186" y="4911"/>
                  <a:pt x="18999" y="4922"/>
                  <a:pt x="19050" y="4986"/>
                </a:cubicBezTo>
              </a:path>
              <a:path w="2010" h="2184">
                <a:moveTo>
                  <a:pt x="18306" y="4762"/>
                </a:moveTo>
                <a:cubicBezTo>
                  <a:pt x="18152" y="4936"/>
                  <a:pt x="17428" y="6029"/>
                  <a:pt x="17190" y="6127"/>
                </a:cubicBezTo>
                <a:cubicBezTo>
                  <a:pt x="17215" y="6061"/>
                  <a:pt x="17239" y="5994"/>
                  <a:pt x="17264" y="5928"/>
                </a:cubicBezTo>
              </a:path>
              <a:path w="2010" h="2184">
                <a:moveTo>
                  <a:pt x="17239" y="4490"/>
                </a:moveTo>
                <a:cubicBezTo>
                  <a:pt x="17728" y="4917"/>
                  <a:pt x="18253" y="5291"/>
                  <a:pt x="18752" y="5705"/>
                </a:cubicBezTo>
                <a:cubicBezTo>
                  <a:pt x="18900" y="5828"/>
                  <a:pt x="18845" y="5754"/>
                  <a:pt x="18752" y="57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4240" y="3106800"/>
            <a:ext cx="820800" cy="600120"/>
          </a:xfrm>
          <a:custGeom>
            <a:avLst/>
            <a:gdLst/>
            <a:ahLst/>
            <a:rect l="l" t="t" r="r" b="b"/>
            <a:pathLst>
              <a:path w="2283" h="1663">
                <a:moveTo>
                  <a:pt x="9451" y="8632"/>
                </a:moveTo>
                <a:cubicBezTo>
                  <a:pt x="9655" y="9143"/>
                  <a:pt x="9590" y="10592"/>
                  <a:pt x="9971" y="10195"/>
                </a:cubicBezTo>
                <a:cubicBezTo>
                  <a:pt x="9971" y="10170"/>
                  <a:pt x="9971" y="10145"/>
                  <a:pt x="9971" y="10120"/>
                </a:cubicBezTo>
              </a:path>
              <a:path w="2283" h="1663">
                <a:moveTo>
                  <a:pt x="10021" y="8657"/>
                </a:moveTo>
                <a:cubicBezTo>
                  <a:pt x="9635" y="9228"/>
                  <a:pt x="9301" y="9766"/>
                  <a:pt x="8806" y="10244"/>
                </a:cubicBezTo>
                <a:cubicBezTo>
                  <a:pt x="8764" y="10286"/>
                  <a:pt x="8739" y="10311"/>
                  <a:pt x="8781" y="10269"/>
                </a:cubicBezTo>
              </a:path>
              <a:path w="2283" h="1663">
                <a:moveTo>
                  <a:pt x="8483" y="9699"/>
                </a:moveTo>
                <a:cubicBezTo>
                  <a:pt x="9014" y="9410"/>
                  <a:pt x="9454" y="9240"/>
                  <a:pt x="10071" y="9277"/>
                </a:cubicBezTo>
                <a:cubicBezTo>
                  <a:pt x="10261" y="9288"/>
                  <a:pt x="10286" y="9318"/>
                  <a:pt x="10492" y="9277"/>
                </a:cubicBezTo>
                <a:cubicBezTo>
                  <a:pt x="10663" y="9243"/>
                  <a:pt x="10833" y="9273"/>
                  <a:pt x="10666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19840" y="3830760"/>
            <a:ext cx="1724040" cy="1733400"/>
          </a:xfrm>
          <a:custGeom>
            <a:avLst/>
            <a:gdLst/>
            <a:ahLst/>
            <a:rect l="l" t="t" r="r" b="b"/>
            <a:pathLst>
              <a:path w="4788" h="4813">
                <a:moveTo>
                  <a:pt x="18107" y="14560"/>
                </a:moveTo>
                <a:cubicBezTo>
                  <a:pt x="18039" y="14738"/>
                  <a:pt x="17952" y="14911"/>
                  <a:pt x="17859" y="15081"/>
                </a:cubicBezTo>
                <a:cubicBezTo>
                  <a:pt x="17796" y="15195"/>
                  <a:pt x="17683" y="15249"/>
                  <a:pt x="17686" y="15379"/>
                </a:cubicBezTo>
                <a:cubicBezTo>
                  <a:pt x="17694" y="15371"/>
                  <a:pt x="17703" y="15362"/>
                  <a:pt x="17711" y="15354"/>
                </a:cubicBezTo>
                <a:cubicBezTo>
                  <a:pt x="17783" y="15149"/>
                  <a:pt x="17901" y="14951"/>
                  <a:pt x="18008" y="14759"/>
                </a:cubicBezTo>
                <a:cubicBezTo>
                  <a:pt x="18069" y="14648"/>
                  <a:pt x="18096" y="14568"/>
                  <a:pt x="18132" y="14461"/>
                </a:cubicBezTo>
                <a:cubicBezTo>
                  <a:pt x="18147" y="14416"/>
                  <a:pt x="18175" y="14394"/>
                  <a:pt x="18207" y="14362"/>
                </a:cubicBezTo>
                <a:cubicBezTo>
                  <a:pt x="18218" y="14468"/>
                  <a:pt x="18258" y="14506"/>
                  <a:pt x="18306" y="14610"/>
                </a:cubicBezTo>
                <a:cubicBezTo>
                  <a:pt x="18382" y="14775"/>
                  <a:pt x="18442" y="14947"/>
                  <a:pt x="18529" y="15106"/>
                </a:cubicBezTo>
                <a:cubicBezTo>
                  <a:pt x="18574" y="15187"/>
                  <a:pt x="18648" y="15256"/>
                  <a:pt x="18703" y="15329"/>
                </a:cubicBezTo>
                <a:cubicBezTo>
                  <a:pt x="18738" y="15376"/>
                  <a:pt x="18744" y="15373"/>
                  <a:pt x="18752" y="15429"/>
                </a:cubicBezTo>
                <a:cubicBezTo>
                  <a:pt x="18543" y="15429"/>
                  <a:pt x="18336" y="15426"/>
                  <a:pt x="18132" y="15453"/>
                </a:cubicBezTo>
                <a:cubicBezTo>
                  <a:pt x="18043" y="15465"/>
                  <a:pt x="17969" y="15441"/>
                  <a:pt x="17884" y="15429"/>
                </a:cubicBezTo>
                <a:cubicBezTo>
                  <a:pt x="17812" y="15419"/>
                  <a:pt x="17724" y="15416"/>
                  <a:pt x="17686" y="15404"/>
                </a:cubicBezTo>
              </a:path>
              <a:path w="4788" h="4813">
                <a:moveTo>
                  <a:pt x="18306" y="14436"/>
                </a:moveTo>
                <a:cubicBezTo>
                  <a:pt x="18396" y="14373"/>
                  <a:pt x="18436" y="14384"/>
                  <a:pt x="18579" y="14387"/>
                </a:cubicBezTo>
                <a:cubicBezTo>
                  <a:pt x="18853" y="14392"/>
                  <a:pt x="19125" y="14348"/>
                  <a:pt x="19397" y="14337"/>
                </a:cubicBezTo>
                <a:cubicBezTo>
                  <a:pt x="19663" y="14327"/>
                  <a:pt x="19928" y="14380"/>
                  <a:pt x="20191" y="14362"/>
                </a:cubicBezTo>
                <a:cubicBezTo>
                  <a:pt x="20329" y="14353"/>
                  <a:pt x="20527" y="14282"/>
                  <a:pt x="20662" y="14312"/>
                </a:cubicBezTo>
                <a:cubicBezTo>
                  <a:pt x="20670" y="14320"/>
                  <a:pt x="20679" y="14329"/>
                  <a:pt x="20687" y="14337"/>
                </a:cubicBezTo>
              </a:path>
              <a:path w="4788" h="4813">
                <a:moveTo>
                  <a:pt x="18802" y="15429"/>
                </a:moveTo>
                <a:cubicBezTo>
                  <a:pt x="18965" y="15413"/>
                  <a:pt x="19114" y="15344"/>
                  <a:pt x="19273" y="15304"/>
                </a:cubicBezTo>
                <a:cubicBezTo>
                  <a:pt x="19491" y="15250"/>
                  <a:pt x="19719" y="15211"/>
                  <a:pt x="19943" y="15205"/>
                </a:cubicBezTo>
                <a:cubicBezTo>
                  <a:pt x="20062" y="15202"/>
                  <a:pt x="20176" y="15191"/>
                  <a:pt x="20290" y="15180"/>
                </a:cubicBezTo>
                <a:cubicBezTo>
                  <a:pt x="20398" y="15170"/>
                  <a:pt x="20503" y="15156"/>
                  <a:pt x="20613" y="15156"/>
                </a:cubicBezTo>
                <a:cubicBezTo>
                  <a:pt x="20675" y="15156"/>
                  <a:pt x="20738" y="15175"/>
                  <a:pt x="20786" y="15180"/>
                </a:cubicBezTo>
                <a:cubicBezTo>
                  <a:pt x="20821" y="15184"/>
                  <a:pt x="20884" y="15161"/>
                  <a:pt x="20935" y="15156"/>
                </a:cubicBezTo>
                <a:cubicBezTo>
                  <a:pt x="20977" y="15156"/>
                  <a:pt x="20985" y="15156"/>
                  <a:pt x="21010" y="15156"/>
                </a:cubicBezTo>
              </a:path>
              <a:path w="4788" h="4813">
                <a:moveTo>
                  <a:pt x="20662" y="14288"/>
                </a:moveTo>
                <a:cubicBezTo>
                  <a:pt x="20693" y="14359"/>
                  <a:pt x="20704" y="14442"/>
                  <a:pt x="20737" y="14511"/>
                </a:cubicBezTo>
                <a:cubicBezTo>
                  <a:pt x="20779" y="14598"/>
                  <a:pt x="20856" y="14709"/>
                  <a:pt x="20910" y="14784"/>
                </a:cubicBezTo>
                <a:cubicBezTo>
                  <a:pt x="20964" y="14859"/>
                  <a:pt x="21007" y="14929"/>
                  <a:pt x="21059" y="15007"/>
                </a:cubicBezTo>
                <a:cubicBezTo>
                  <a:pt x="21076" y="15032"/>
                  <a:pt x="21158" y="15115"/>
                  <a:pt x="21183" y="15131"/>
                </a:cubicBezTo>
                <a:cubicBezTo>
                  <a:pt x="21215" y="15152"/>
                  <a:pt x="21224" y="15158"/>
                  <a:pt x="21233" y="15205"/>
                </a:cubicBezTo>
                <a:cubicBezTo>
                  <a:pt x="21134" y="15205"/>
                  <a:pt x="21034" y="15205"/>
                  <a:pt x="20935" y="15205"/>
                </a:cubicBezTo>
              </a:path>
              <a:path w="4788" h="4813">
                <a:moveTo>
                  <a:pt x="18107" y="15032"/>
                </a:moveTo>
                <a:cubicBezTo>
                  <a:pt x="17923" y="14979"/>
                  <a:pt x="17745" y="14918"/>
                  <a:pt x="17562" y="14858"/>
                </a:cubicBezTo>
                <a:cubicBezTo>
                  <a:pt x="17452" y="14821"/>
                  <a:pt x="17432" y="14833"/>
                  <a:pt x="17388" y="14784"/>
                </a:cubicBezTo>
              </a:path>
              <a:path w="4788" h="4813">
                <a:moveTo>
                  <a:pt x="16619" y="14362"/>
                </a:moveTo>
                <a:cubicBezTo>
                  <a:pt x="16650" y="14533"/>
                  <a:pt x="16715" y="14715"/>
                  <a:pt x="16768" y="14883"/>
                </a:cubicBezTo>
                <a:cubicBezTo>
                  <a:pt x="16768" y="14875"/>
                  <a:pt x="16768" y="14866"/>
                  <a:pt x="16768" y="14858"/>
                </a:cubicBezTo>
              </a:path>
              <a:path w="4788" h="4813">
                <a:moveTo>
                  <a:pt x="16446" y="14387"/>
                </a:moveTo>
                <a:cubicBezTo>
                  <a:pt x="16499" y="14331"/>
                  <a:pt x="16868" y="13953"/>
                  <a:pt x="16942" y="14188"/>
                </a:cubicBezTo>
                <a:cubicBezTo>
                  <a:pt x="16917" y="14335"/>
                  <a:pt x="16910" y="14383"/>
                  <a:pt x="16842" y="14461"/>
                </a:cubicBezTo>
                <a:cubicBezTo>
                  <a:pt x="16834" y="14469"/>
                  <a:pt x="16826" y="14478"/>
                  <a:pt x="16818" y="14486"/>
                </a:cubicBezTo>
                <a:cubicBezTo>
                  <a:pt x="16858" y="14392"/>
                  <a:pt x="17066" y="14240"/>
                  <a:pt x="17090" y="14461"/>
                </a:cubicBezTo>
                <a:cubicBezTo>
                  <a:pt x="17097" y="14525"/>
                  <a:pt x="16853" y="14921"/>
                  <a:pt x="16793" y="14833"/>
                </a:cubicBezTo>
                <a:cubicBezTo>
                  <a:pt x="16793" y="14792"/>
                  <a:pt x="16793" y="14750"/>
                  <a:pt x="16793" y="14709"/>
                </a:cubicBezTo>
              </a:path>
              <a:path w="4788" h="4813">
                <a:moveTo>
                  <a:pt x="17338" y="14163"/>
                </a:moveTo>
                <a:cubicBezTo>
                  <a:pt x="17338" y="14075"/>
                  <a:pt x="17245" y="14063"/>
                  <a:pt x="17190" y="14139"/>
                </a:cubicBezTo>
                <a:cubicBezTo>
                  <a:pt x="17128" y="14223"/>
                  <a:pt x="17174" y="14554"/>
                  <a:pt x="17289" y="14412"/>
                </a:cubicBezTo>
                <a:cubicBezTo>
                  <a:pt x="17334" y="14298"/>
                  <a:pt x="17350" y="14268"/>
                  <a:pt x="17338" y="14188"/>
                </a:cubicBezTo>
                <a:cubicBezTo>
                  <a:pt x="17384" y="14262"/>
                  <a:pt x="17392" y="14339"/>
                  <a:pt x="17438" y="14263"/>
                </a:cubicBezTo>
              </a:path>
              <a:path w="4788" h="4813">
                <a:moveTo>
                  <a:pt x="17537" y="13891"/>
                </a:moveTo>
                <a:cubicBezTo>
                  <a:pt x="17488" y="13930"/>
                  <a:pt x="17476" y="13972"/>
                  <a:pt x="17462" y="14039"/>
                </a:cubicBezTo>
                <a:cubicBezTo>
                  <a:pt x="17542" y="14045"/>
                  <a:pt x="17592" y="14050"/>
                  <a:pt x="17661" y="14089"/>
                </a:cubicBezTo>
                <a:cubicBezTo>
                  <a:pt x="17616" y="14234"/>
                  <a:pt x="17564" y="14430"/>
                  <a:pt x="17512" y="14188"/>
                </a:cubicBezTo>
              </a:path>
              <a:path w="4788" h="4813">
                <a:moveTo>
                  <a:pt x="17735" y="13915"/>
                </a:moveTo>
                <a:cubicBezTo>
                  <a:pt x="17760" y="13891"/>
                  <a:pt x="17837" y="13850"/>
                  <a:pt x="17884" y="13816"/>
                </a:cubicBezTo>
                <a:cubicBezTo>
                  <a:pt x="17821" y="13816"/>
                  <a:pt x="17765" y="13767"/>
                  <a:pt x="17711" y="13816"/>
                </a:cubicBezTo>
                <a:cubicBezTo>
                  <a:pt x="17532" y="13978"/>
                  <a:pt x="17806" y="14059"/>
                  <a:pt x="17934" y="14015"/>
                </a:cubicBezTo>
                <a:cubicBezTo>
                  <a:pt x="18024" y="13961"/>
                  <a:pt x="18025" y="13936"/>
                  <a:pt x="18083" y="13940"/>
                </a:cubicBezTo>
              </a:path>
              <a:path w="4788" h="4813">
                <a:moveTo>
                  <a:pt x="19397" y="13593"/>
                </a:moveTo>
                <a:cubicBezTo>
                  <a:pt x="19397" y="13736"/>
                  <a:pt x="19449" y="13873"/>
                  <a:pt x="19447" y="14015"/>
                </a:cubicBezTo>
                <a:cubicBezTo>
                  <a:pt x="19446" y="14082"/>
                  <a:pt x="19422" y="14230"/>
                  <a:pt x="19422" y="14163"/>
                </a:cubicBezTo>
              </a:path>
              <a:path w="4788" h="4813">
                <a:moveTo>
                  <a:pt x="19273" y="14015"/>
                </a:moveTo>
                <a:cubicBezTo>
                  <a:pt x="19317" y="14058"/>
                  <a:pt x="19384" y="14161"/>
                  <a:pt x="19422" y="14188"/>
                </a:cubicBezTo>
                <a:cubicBezTo>
                  <a:pt x="19471" y="14223"/>
                  <a:pt x="19568" y="14151"/>
                  <a:pt x="19596" y="14139"/>
                </a:cubicBezTo>
                <a:cubicBezTo>
                  <a:pt x="19666" y="14108"/>
                  <a:pt x="19672" y="14112"/>
                  <a:pt x="19720" y="14064"/>
                </a:cubicBezTo>
              </a:path>
              <a:path w="4788" h="4813">
                <a:moveTo>
                  <a:pt x="19248" y="13047"/>
                </a:moveTo>
                <a:cubicBezTo>
                  <a:pt x="19248" y="12944"/>
                  <a:pt x="19298" y="13195"/>
                  <a:pt x="19323" y="13295"/>
                </a:cubicBezTo>
                <a:cubicBezTo>
                  <a:pt x="19339" y="13360"/>
                  <a:pt x="19348" y="13511"/>
                  <a:pt x="19348" y="13444"/>
                </a:cubicBezTo>
                <a:cubicBezTo>
                  <a:pt x="19348" y="13381"/>
                  <a:pt x="19333" y="13243"/>
                  <a:pt x="19397" y="13196"/>
                </a:cubicBezTo>
                <a:cubicBezTo>
                  <a:pt x="19516" y="13109"/>
                  <a:pt x="19566" y="13224"/>
                  <a:pt x="19596" y="13320"/>
                </a:cubicBezTo>
                <a:cubicBezTo>
                  <a:pt x="19610" y="13364"/>
                  <a:pt x="19621" y="13488"/>
                  <a:pt x="19670" y="13494"/>
                </a:cubicBezTo>
                <a:cubicBezTo>
                  <a:pt x="19695" y="13494"/>
                  <a:pt x="19703" y="13494"/>
                  <a:pt x="19720" y="13494"/>
                </a:cubicBezTo>
              </a:path>
              <a:path w="4788" h="4813">
                <a:moveTo>
                  <a:pt x="17661" y="10641"/>
                </a:moveTo>
                <a:cubicBezTo>
                  <a:pt x="18515" y="10892"/>
                  <a:pt x="19243" y="11268"/>
                  <a:pt x="19968" y="11782"/>
                </a:cubicBezTo>
                <a:cubicBezTo>
                  <a:pt x="19976" y="11790"/>
                  <a:pt x="19985" y="11799"/>
                  <a:pt x="19993" y="118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6920" y="3446640"/>
            <a:ext cx="768240" cy="795240"/>
          </a:xfrm>
          <a:custGeom>
            <a:avLst/>
            <a:gdLst/>
            <a:ahLst/>
            <a:rect l="l" t="t" r="r" b="b"/>
            <a:pathLst>
              <a:path w="2134" h="2208">
                <a:moveTo>
                  <a:pt x="13519" y="9599"/>
                </a:moveTo>
                <a:cubicBezTo>
                  <a:pt x="13554" y="9755"/>
                  <a:pt x="13683" y="10517"/>
                  <a:pt x="13717" y="10716"/>
                </a:cubicBezTo>
                <a:cubicBezTo>
                  <a:pt x="13728" y="10778"/>
                  <a:pt x="13892" y="11936"/>
                  <a:pt x="13965" y="11683"/>
                </a:cubicBezTo>
              </a:path>
              <a:path w="2134" h="2208">
                <a:moveTo>
                  <a:pt x="13047" y="11584"/>
                </a:moveTo>
                <a:cubicBezTo>
                  <a:pt x="13450" y="11033"/>
                  <a:pt x="14010" y="10669"/>
                  <a:pt x="14635" y="10368"/>
                </a:cubicBezTo>
                <a:cubicBezTo>
                  <a:pt x="14981" y="10201"/>
                  <a:pt x="14728" y="10408"/>
                  <a:pt x="14660" y="10468"/>
                </a:cubicBezTo>
              </a:path>
              <a:path w="2134" h="2208">
                <a:moveTo>
                  <a:pt x="14734" y="10046"/>
                </a:moveTo>
                <a:cubicBezTo>
                  <a:pt x="14414" y="10379"/>
                  <a:pt x="13769" y="11335"/>
                  <a:pt x="13295" y="11435"/>
                </a:cubicBezTo>
                <a:cubicBezTo>
                  <a:pt x="13338" y="11392"/>
                  <a:pt x="13357" y="11361"/>
                  <a:pt x="13370" y="11311"/>
                </a:cubicBezTo>
              </a:path>
              <a:path w="2134" h="2208">
                <a:moveTo>
                  <a:pt x="12799" y="10170"/>
                </a:moveTo>
                <a:cubicBezTo>
                  <a:pt x="13308" y="10414"/>
                  <a:pt x="13861" y="10579"/>
                  <a:pt x="14387" y="10790"/>
                </a:cubicBezTo>
                <a:cubicBezTo>
                  <a:pt x="14393" y="10793"/>
                  <a:pt x="14867" y="11006"/>
                  <a:pt x="14883" y="10988"/>
                </a:cubicBezTo>
                <a:cubicBezTo>
                  <a:pt x="14899" y="10955"/>
                  <a:pt x="14916" y="10922"/>
                  <a:pt x="14932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6880" y="3670200"/>
            <a:ext cx="706320" cy="679680"/>
          </a:xfrm>
          <a:custGeom>
            <a:avLst/>
            <a:gdLst/>
            <a:ahLst/>
            <a:rect l="l" t="t" r="r" b="b"/>
            <a:pathLst>
              <a:path w="1961" h="1886">
                <a:moveTo>
                  <a:pt x="18604" y="10195"/>
                </a:moveTo>
                <a:cubicBezTo>
                  <a:pt x="18766" y="10604"/>
                  <a:pt x="18905" y="10999"/>
                  <a:pt x="19000" y="11435"/>
                </a:cubicBezTo>
                <a:cubicBezTo>
                  <a:pt x="19049" y="11657"/>
                  <a:pt x="19075" y="11833"/>
                  <a:pt x="19124" y="12055"/>
                </a:cubicBezTo>
              </a:path>
              <a:path w="1961" h="1886">
                <a:moveTo>
                  <a:pt x="17909" y="11336"/>
                </a:moveTo>
                <a:cubicBezTo>
                  <a:pt x="18551" y="11243"/>
                  <a:pt x="19171" y="11113"/>
                  <a:pt x="19819" y="11112"/>
                </a:cubicBezTo>
                <a:cubicBezTo>
                  <a:pt x="19836" y="11112"/>
                  <a:pt x="19852" y="11112"/>
                  <a:pt x="19869" y="111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51120" y="2251080"/>
            <a:ext cx="6126120" cy="1579680"/>
          </a:xfrm>
          <a:custGeom>
            <a:avLst/>
            <a:gdLst/>
            <a:ahLst/>
            <a:rect l="l" t="t" r="r" b="b"/>
            <a:pathLst>
              <a:path w="17017" h="4391">
                <a:moveTo>
                  <a:pt x="12998" y="9302"/>
                </a:moveTo>
                <a:cubicBezTo>
                  <a:pt x="13014" y="9363"/>
                  <a:pt x="13022" y="9391"/>
                  <a:pt x="13022" y="9451"/>
                </a:cubicBezTo>
                <a:cubicBezTo>
                  <a:pt x="13096" y="9451"/>
                  <a:pt x="13177" y="9425"/>
                  <a:pt x="13246" y="9401"/>
                </a:cubicBezTo>
                <a:cubicBezTo>
                  <a:pt x="13376" y="9355"/>
                  <a:pt x="13446" y="9319"/>
                  <a:pt x="13568" y="9351"/>
                </a:cubicBezTo>
                <a:cubicBezTo>
                  <a:pt x="13598" y="9359"/>
                  <a:pt x="13613" y="9369"/>
                  <a:pt x="13643" y="9376"/>
                </a:cubicBezTo>
                <a:cubicBezTo>
                  <a:pt x="13629" y="9308"/>
                  <a:pt x="13606" y="9288"/>
                  <a:pt x="13643" y="9227"/>
                </a:cubicBezTo>
              </a:path>
              <a:path w="17017" h="4391">
                <a:moveTo>
                  <a:pt x="17289" y="7938"/>
                </a:moveTo>
                <a:cubicBezTo>
                  <a:pt x="17271" y="8237"/>
                  <a:pt x="17234" y="8532"/>
                  <a:pt x="17190" y="8830"/>
                </a:cubicBezTo>
                <a:cubicBezTo>
                  <a:pt x="17177" y="8919"/>
                  <a:pt x="17171" y="8956"/>
                  <a:pt x="17165" y="9029"/>
                </a:cubicBezTo>
                <a:cubicBezTo>
                  <a:pt x="17419" y="8982"/>
                  <a:pt x="17669" y="8881"/>
                  <a:pt x="17934" y="8855"/>
                </a:cubicBezTo>
                <a:cubicBezTo>
                  <a:pt x="18106" y="8838"/>
                  <a:pt x="18243" y="8877"/>
                  <a:pt x="18405" y="8905"/>
                </a:cubicBezTo>
                <a:cubicBezTo>
                  <a:pt x="18413" y="8905"/>
                  <a:pt x="18422" y="8905"/>
                  <a:pt x="18430" y="8905"/>
                </a:cubicBezTo>
                <a:cubicBezTo>
                  <a:pt x="18458" y="8724"/>
                  <a:pt x="18483" y="8541"/>
                  <a:pt x="18504" y="8359"/>
                </a:cubicBezTo>
                <a:cubicBezTo>
                  <a:pt x="18524" y="8185"/>
                  <a:pt x="18547" y="8013"/>
                  <a:pt x="18554" y="7838"/>
                </a:cubicBezTo>
                <a:cubicBezTo>
                  <a:pt x="18554" y="7830"/>
                  <a:pt x="18554" y="7821"/>
                  <a:pt x="18554" y="7813"/>
                </a:cubicBezTo>
                <a:cubicBezTo>
                  <a:pt x="18487" y="7757"/>
                  <a:pt x="18554" y="7767"/>
                  <a:pt x="18430" y="7764"/>
                </a:cubicBezTo>
                <a:cubicBezTo>
                  <a:pt x="18192" y="7758"/>
                  <a:pt x="17925" y="7813"/>
                  <a:pt x="17686" y="7838"/>
                </a:cubicBezTo>
                <a:cubicBezTo>
                  <a:pt x="17659" y="7841"/>
                  <a:pt x="17410" y="7858"/>
                  <a:pt x="17388" y="7888"/>
                </a:cubicBezTo>
                <a:cubicBezTo>
                  <a:pt x="17396" y="7905"/>
                  <a:pt x="17405" y="7921"/>
                  <a:pt x="17413" y="7938"/>
                </a:cubicBezTo>
              </a:path>
              <a:path w="17017" h="4391">
                <a:moveTo>
                  <a:pt x="18678" y="7714"/>
                </a:moveTo>
                <a:cubicBezTo>
                  <a:pt x="18989" y="7643"/>
                  <a:pt x="19308" y="7583"/>
                  <a:pt x="19621" y="7516"/>
                </a:cubicBezTo>
                <a:cubicBezTo>
                  <a:pt x="20084" y="7416"/>
                  <a:pt x="20551" y="7335"/>
                  <a:pt x="21010" y="7218"/>
                </a:cubicBezTo>
                <a:cubicBezTo>
                  <a:pt x="21162" y="7179"/>
                  <a:pt x="21277" y="7169"/>
                  <a:pt x="21431" y="7169"/>
                </a:cubicBezTo>
              </a:path>
              <a:path w="17017" h="4391">
                <a:moveTo>
                  <a:pt x="17314" y="7863"/>
                </a:moveTo>
                <a:cubicBezTo>
                  <a:pt x="17378" y="7817"/>
                  <a:pt x="17495" y="7736"/>
                  <a:pt x="17587" y="7689"/>
                </a:cubicBezTo>
                <a:cubicBezTo>
                  <a:pt x="17916" y="7519"/>
                  <a:pt x="18276" y="7406"/>
                  <a:pt x="18628" y="7293"/>
                </a:cubicBezTo>
                <a:cubicBezTo>
                  <a:pt x="19007" y="7171"/>
                  <a:pt x="19378" y="7027"/>
                  <a:pt x="19769" y="6945"/>
                </a:cubicBezTo>
                <a:cubicBezTo>
                  <a:pt x="19970" y="6903"/>
                  <a:pt x="20167" y="6877"/>
                  <a:pt x="20365" y="6821"/>
                </a:cubicBezTo>
                <a:cubicBezTo>
                  <a:pt x="20449" y="6797"/>
                  <a:pt x="20531" y="6790"/>
                  <a:pt x="20613" y="6772"/>
                </a:cubicBezTo>
              </a:path>
              <a:path w="17017" h="4391">
                <a:moveTo>
                  <a:pt x="18653" y="8830"/>
                </a:moveTo>
                <a:cubicBezTo>
                  <a:pt x="18582" y="8818"/>
                  <a:pt x="18609" y="8820"/>
                  <a:pt x="18529" y="8830"/>
                </a:cubicBezTo>
                <a:cubicBezTo>
                  <a:pt x="18471" y="8837"/>
                  <a:pt x="18444" y="8861"/>
                  <a:pt x="18504" y="8830"/>
                </a:cubicBezTo>
                <a:cubicBezTo>
                  <a:pt x="18765" y="8694"/>
                  <a:pt x="19113" y="8607"/>
                  <a:pt x="19397" y="8533"/>
                </a:cubicBezTo>
                <a:cubicBezTo>
                  <a:pt x="19681" y="8459"/>
                  <a:pt x="19941" y="8357"/>
                  <a:pt x="20216" y="8260"/>
                </a:cubicBezTo>
                <a:cubicBezTo>
                  <a:pt x="20416" y="8190"/>
                  <a:pt x="20631" y="8117"/>
                  <a:pt x="20836" y="8062"/>
                </a:cubicBezTo>
                <a:cubicBezTo>
                  <a:pt x="20957" y="8029"/>
                  <a:pt x="21087" y="8015"/>
                  <a:pt x="21208" y="7987"/>
                </a:cubicBezTo>
                <a:cubicBezTo>
                  <a:pt x="21301" y="7966"/>
                  <a:pt x="21391" y="7959"/>
                  <a:pt x="21481" y="7938"/>
                </a:cubicBezTo>
                <a:cubicBezTo>
                  <a:pt x="21532" y="7926"/>
                  <a:pt x="21633" y="7869"/>
                  <a:pt x="21654" y="7863"/>
                </a:cubicBezTo>
                <a:cubicBezTo>
                  <a:pt x="21679" y="7863"/>
                  <a:pt x="21687" y="7863"/>
                  <a:pt x="21704" y="7863"/>
                </a:cubicBezTo>
                <a:cubicBezTo>
                  <a:pt x="21674" y="7768"/>
                  <a:pt x="21653" y="7665"/>
                  <a:pt x="21630" y="7565"/>
                </a:cubicBezTo>
                <a:cubicBezTo>
                  <a:pt x="21601" y="7437"/>
                  <a:pt x="21554" y="7332"/>
                  <a:pt x="21506" y="7218"/>
                </a:cubicBezTo>
                <a:cubicBezTo>
                  <a:pt x="21484" y="7166"/>
                  <a:pt x="21495" y="7143"/>
                  <a:pt x="21481" y="7094"/>
                </a:cubicBezTo>
                <a:cubicBezTo>
                  <a:pt x="21324" y="7086"/>
                  <a:pt x="21186" y="7060"/>
                  <a:pt x="21034" y="7020"/>
                </a:cubicBezTo>
                <a:cubicBezTo>
                  <a:pt x="20980" y="7006"/>
                  <a:pt x="20909" y="6980"/>
                  <a:pt x="20861" y="6970"/>
                </a:cubicBezTo>
                <a:cubicBezTo>
                  <a:pt x="20762" y="6949"/>
                  <a:pt x="20662" y="6945"/>
                  <a:pt x="20563" y="6921"/>
                </a:cubicBezTo>
                <a:cubicBezTo>
                  <a:pt x="20444" y="6893"/>
                  <a:pt x="20338" y="6856"/>
                  <a:pt x="20216" y="6846"/>
                </a:cubicBezTo>
                <a:cubicBezTo>
                  <a:pt x="20169" y="6842"/>
                  <a:pt x="20074" y="6822"/>
                  <a:pt x="20067" y="6821"/>
                </a:cubicBezTo>
                <a:cubicBezTo>
                  <a:pt x="20059" y="6821"/>
                  <a:pt x="20050" y="6821"/>
                  <a:pt x="20042" y="6821"/>
                </a:cubicBezTo>
              </a:path>
              <a:path w="17017" h="4391">
                <a:moveTo>
                  <a:pt x="17438" y="9401"/>
                </a:moveTo>
                <a:cubicBezTo>
                  <a:pt x="17541" y="9374"/>
                  <a:pt x="17654" y="9305"/>
                  <a:pt x="17735" y="9227"/>
                </a:cubicBezTo>
                <a:cubicBezTo>
                  <a:pt x="17790" y="9173"/>
                  <a:pt x="17821" y="9123"/>
                  <a:pt x="17835" y="9054"/>
                </a:cubicBezTo>
                <a:cubicBezTo>
                  <a:pt x="17777" y="9034"/>
                  <a:pt x="17650" y="8994"/>
                  <a:pt x="17611" y="9079"/>
                </a:cubicBezTo>
                <a:cubicBezTo>
                  <a:pt x="17542" y="9232"/>
                  <a:pt x="17594" y="9371"/>
                  <a:pt x="17711" y="9475"/>
                </a:cubicBezTo>
                <a:cubicBezTo>
                  <a:pt x="17748" y="9508"/>
                  <a:pt x="17792" y="9539"/>
                  <a:pt x="17835" y="9550"/>
                </a:cubicBezTo>
              </a:path>
              <a:path w="17017" h="4391">
                <a:moveTo>
                  <a:pt x="18628" y="8235"/>
                </a:moveTo>
                <a:cubicBezTo>
                  <a:pt x="18628" y="8190"/>
                  <a:pt x="18648" y="8177"/>
                  <a:pt x="18653" y="8136"/>
                </a:cubicBezTo>
                <a:cubicBezTo>
                  <a:pt x="18653" y="8128"/>
                  <a:pt x="18653" y="8119"/>
                  <a:pt x="18653" y="8111"/>
                </a:cubicBezTo>
                <a:cubicBezTo>
                  <a:pt x="18690" y="8172"/>
                  <a:pt x="18688" y="8261"/>
                  <a:pt x="18703" y="8334"/>
                </a:cubicBezTo>
                <a:cubicBezTo>
                  <a:pt x="18703" y="8342"/>
                  <a:pt x="18703" y="8351"/>
                  <a:pt x="18703" y="8359"/>
                </a:cubicBezTo>
                <a:cubicBezTo>
                  <a:pt x="18834" y="8301"/>
                  <a:pt x="18843" y="8269"/>
                  <a:pt x="18901" y="8136"/>
                </a:cubicBezTo>
                <a:cubicBezTo>
                  <a:pt x="18923" y="8092"/>
                  <a:pt x="18936" y="8081"/>
                  <a:pt x="18901" y="8062"/>
                </a:cubicBezTo>
                <a:cubicBezTo>
                  <a:pt x="18917" y="8154"/>
                  <a:pt x="18898" y="8247"/>
                  <a:pt x="19025" y="8210"/>
                </a:cubicBezTo>
                <a:cubicBezTo>
                  <a:pt x="19119" y="8183"/>
                  <a:pt x="19220" y="8026"/>
                  <a:pt x="19100" y="7962"/>
                </a:cubicBezTo>
                <a:cubicBezTo>
                  <a:pt x="19067" y="7954"/>
                  <a:pt x="19033" y="7946"/>
                  <a:pt x="19000" y="7938"/>
                </a:cubicBezTo>
              </a:path>
              <a:path w="17017" h="4391">
                <a:moveTo>
                  <a:pt x="17636" y="8235"/>
                </a:moveTo>
                <a:cubicBezTo>
                  <a:pt x="17670" y="8224"/>
                  <a:pt x="17718" y="8446"/>
                  <a:pt x="17735" y="8533"/>
                </a:cubicBezTo>
                <a:cubicBezTo>
                  <a:pt x="17735" y="8607"/>
                  <a:pt x="17735" y="8632"/>
                  <a:pt x="17735" y="8533"/>
                </a:cubicBezTo>
              </a:path>
              <a:path w="17017" h="4391">
                <a:moveTo>
                  <a:pt x="17487" y="8235"/>
                </a:moveTo>
                <a:cubicBezTo>
                  <a:pt x="17636" y="8127"/>
                  <a:pt x="17724" y="8089"/>
                  <a:pt x="17909" y="8136"/>
                </a:cubicBezTo>
                <a:cubicBezTo>
                  <a:pt x="17900" y="8247"/>
                  <a:pt x="17894" y="8268"/>
                  <a:pt x="17810" y="8334"/>
                </a:cubicBezTo>
                <a:cubicBezTo>
                  <a:pt x="17881" y="8317"/>
                  <a:pt x="17948" y="8273"/>
                  <a:pt x="18033" y="8285"/>
                </a:cubicBezTo>
                <a:cubicBezTo>
                  <a:pt x="18181" y="8306"/>
                  <a:pt x="18149" y="8464"/>
                  <a:pt x="18058" y="8533"/>
                </a:cubicBezTo>
                <a:cubicBezTo>
                  <a:pt x="17977" y="8573"/>
                  <a:pt x="17964" y="8589"/>
                  <a:pt x="17909" y="8582"/>
                </a:cubicBezTo>
              </a:path>
              <a:path w="17017" h="4391">
                <a:moveTo>
                  <a:pt x="15131" y="7094"/>
                </a:moveTo>
                <a:cubicBezTo>
                  <a:pt x="14624" y="6608"/>
                  <a:pt x="14199" y="6412"/>
                  <a:pt x="13469" y="6325"/>
                </a:cubicBezTo>
                <a:cubicBezTo>
                  <a:pt x="12852" y="6252"/>
                  <a:pt x="12206" y="6236"/>
                  <a:pt x="11584" y="6251"/>
                </a:cubicBezTo>
                <a:cubicBezTo>
                  <a:pt x="10756" y="6271"/>
                  <a:pt x="8924" y="6588"/>
                  <a:pt x="8657" y="7590"/>
                </a:cubicBezTo>
                <a:cubicBezTo>
                  <a:pt x="8560" y="7955"/>
                  <a:pt x="8611" y="8319"/>
                  <a:pt x="8781" y="8657"/>
                </a:cubicBezTo>
                <a:cubicBezTo>
                  <a:pt x="9185" y="9460"/>
                  <a:pt x="10168" y="9963"/>
                  <a:pt x="11038" y="9971"/>
                </a:cubicBezTo>
                <a:cubicBezTo>
                  <a:pt x="12103" y="9981"/>
                  <a:pt x="13149" y="10139"/>
                  <a:pt x="14213" y="10170"/>
                </a:cubicBezTo>
                <a:cubicBezTo>
                  <a:pt x="15110" y="10196"/>
                  <a:pt x="16003" y="10323"/>
                  <a:pt x="16892" y="10443"/>
                </a:cubicBezTo>
                <a:cubicBezTo>
                  <a:pt x="17671" y="10548"/>
                  <a:pt x="18487" y="10617"/>
                  <a:pt x="19273" y="10641"/>
                </a:cubicBezTo>
                <a:cubicBezTo>
                  <a:pt x="19961" y="10662"/>
                  <a:pt x="20674" y="10624"/>
                  <a:pt x="21357" y="10542"/>
                </a:cubicBezTo>
                <a:cubicBezTo>
                  <a:pt x="21931" y="10473"/>
                  <a:pt x="22554" y="10412"/>
                  <a:pt x="23093" y="10195"/>
                </a:cubicBezTo>
                <a:cubicBezTo>
                  <a:pt x="23572" y="10002"/>
                  <a:pt x="23724" y="9657"/>
                  <a:pt x="23713" y="9153"/>
                </a:cubicBezTo>
                <a:cubicBezTo>
                  <a:pt x="23689" y="8100"/>
                  <a:pt x="22894" y="7268"/>
                  <a:pt x="21977" y="6896"/>
                </a:cubicBezTo>
                <a:cubicBezTo>
                  <a:pt x="21381" y="6654"/>
                  <a:pt x="20735" y="6528"/>
                  <a:pt x="20092" y="6524"/>
                </a:cubicBezTo>
                <a:cubicBezTo>
                  <a:pt x="19409" y="6520"/>
                  <a:pt x="18735" y="6633"/>
                  <a:pt x="18058" y="6697"/>
                </a:cubicBezTo>
                <a:cubicBezTo>
                  <a:pt x="16609" y="6834"/>
                  <a:pt x="15171" y="6892"/>
                  <a:pt x="13717" y="6796"/>
                </a:cubicBezTo>
                <a:cubicBezTo>
                  <a:pt x="12889" y="6741"/>
                  <a:pt x="12067" y="6723"/>
                  <a:pt x="11237" y="6747"/>
                </a:cubicBezTo>
                <a:cubicBezTo>
                  <a:pt x="10490" y="6774"/>
                  <a:pt x="10207" y="6790"/>
                  <a:pt x="9699" y="6896"/>
                </a:cubicBezTo>
              </a:path>
              <a:path w="17017" h="4391">
                <a:moveTo>
                  <a:pt x="7764" y="6623"/>
                </a:moveTo>
                <a:cubicBezTo>
                  <a:pt x="8030" y="6945"/>
                  <a:pt x="8342" y="7255"/>
                  <a:pt x="8558" y="7615"/>
                </a:cubicBezTo>
                <a:cubicBezTo>
                  <a:pt x="8550" y="7615"/>
                  <a:pt x="8541" y="7615"/>
                  <a:pt x="8533" y="7615"/>
                </a:cubicBezTo>
              </a:path>
              <a:path w="17017" h="4391">
                <a:moveTo>
                  <a:pt x="7640" y="6921"/>
                </a:moveTo>
                <a:cubicBezTo>
                  <a:pt x="8082" y="6902"/>
                  <a:pt x="8512" y="6819"/>
                  <a:pt x="8954" y="6796"/>
                </a:cubicBezTo>
                <a:cubicBezTo>
                  <a:pt x="9151" y="6786"/>
                  <a:pt x="9211" y="6838"/>
                  <a:pt x="9178" y="6821"/>
                </a:cubicBezTo>
              </a:path>
              <a:path w="17017" h="4391">
                <a:moveTo>
                  <a:pt x="7764" y="6474"/>
                </a:moveTo>
                <a:cubicBezTo>
                  <a:pt x="8148" y="6744"/>
                  <a:pt x="8575" y="6967"/>
                  <a:pt x="8930" y="7268"/>
                </a:cubicBezTo>
                <a:cubicBezTo>
                  <a:pt x="8938" y="7276"/>
                  <a:pt x="8946" y="7285"/>
                  <a:pt x="8954" y="7293"/>
                </a:cubicBezTo>
              </a:path>
              <a:path w="17017" h="4391">
                <a:moveTo>
                  <a:pt x="24507" y="7392"/>
                </a:moveTo>
                <a:cubicBezTo>
                  <a:pt x="24412" y="7482"/>
                  <a:pt x="23379" y="8579"/>
                  <a:pt x="23341" y="8558"/>
                </a:cubicBezTo>
                <a:cubicBezTo>
                  <a:pt x="23341" y="8648"/>
                  <a:pt x="23370" y="8597"/>
                  <a:pt x="23440" y="8384"/>
                </a:cubicBezTo>
              </a:path>
              <a:path w="17017" h="4391">
                <a:moveTo>
                  <a:pt x="23589" y="7491"/>
                </a:moveTo>
                <a:cubicBezTo>
                  <a:pt x="23953" y="7809"/>
                  <a:pt x="24276" y="8155"/>
                  <a:pt x="24581" y="8533"/>
                </a:cubicBezTo>
                <a:cubicBezTo>
                  <a:pt x="24621" y="8592"/>
                  <a:pt x="24625" y="8604"/>
                  <a:pt x="24656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1960" y="2295360"/>
            <a:ext cx="5992920" cy="1963800"/>
          </a:xfrm>
          <a:custGeom>
            <a:avLst/>
            <a:gdLst/>
            <a:ahLst/>
            <a:rect l="l" t="t" r="r" b="b"/>
            <a:pathLst>
              <a:path w="16644" h="5458">
                <a:moveTo>
                  <a:pt x="18951" y="8756"/>
                </a:moveTo>
                <a:cubicBezTo>
                  <a:pt x="18934" y="8756"/>
                  <a:pt x="18918" y="8756"/>
                  <a:pt x="18901" y="8756"/>
                </a:cubicBezTo>
              </a:path>
              <a:path w="16644" h="5458">
                <a:moveTo>
                  <a:pt x="8508" y="6400"/>
                </a:moveTo>
                <a:cubicBezTo>
                  <a:pt x="8488" y="6665"/>
                  <a:pt x="8500" y="8087"/>
                  <a:pt x="8285" y="7441"/>
                </a:cubicBezTo>
              </a:path>
              <a:path w="16644" h="5458">
                <a:moveTo>
                  <a:pt x="8657" y="6375"/>
                </a:moveTo>
                <a:cubicBezTo>
                  <a:pt x="8520" y="6743"/>
                  <a:pt x="8378" y="7458"/>
                  <a:pt x="8062" y="7714"/>
                </a:cubicBezTo>
                <a:cubicBezTo>
                  <a:pt x="8095" y="7640"/>
                  <a:pt x="8128" y="7565"/>
                  <a:pt x="8161" y="7491"/>
                </a:cubicBezTo>
              </a:path>
              <a:path w="16644" h="5458">
                <a:moveTo>
                  <a:pt x="23862" y="7169"/>
                </a:moveTo>
                <a:cubicBezTo>
                  <a:pt x="23932" y="7582"/>
                  <a:pt x="23973" y="7986"/>
                  <a:pt x="23986" y="8409"/>
                </a:cubicBezTo>
                <a:cubicBezTo>
                  <a:pt x="23986" y="8500"/>
                  <a:pt x="23986" y="8591"/>
                  <a:pt x="23986" y="8682"/>
                </a:cubicBezTo>
              </a:path>
              <a:path w="16644" h="5458">
                <a:moveTo>
                  <a:pt x="23217" y="8260"/>
                </a:moveTo>
                <a:cubicBezTo>
                  <a:pt x="23660" y="8116"/>
                  <a:pt x="24204" y="7881"/>
                  <a:pt x="24681" y="7913"/>
                </a:cubicBezTo>
                <a:cubicBezTo>
                  <a:pt x="24720" y="7913"/>
                  <a:pt x="24717" y="7924"/>
                  <a:pt x="24656" y="7962"/>
                </a:cubicBezTo>
              </a:path>
              <a:path w="16644" h="5458">
                <a:moveTo>
                  <a:pt x="19323" y="10765"/>
                </a:moveTo>
                <a:cubicBezTo>
                  <a:pt x="18955" y="11101"/>
                  <a:pt x="18618" y="11503"/>
                  <a:pt x="18256" y="11832"/>
                </a:cubicBezTo>
                <a:cubicBezTo>
                  <a:pt x="18256" y="11824"/>
                  <a:pt x="18256" y="11815"/>
                  <a:pt x="18256" y="118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41920" y="3357720"/>
            <a:ext cx="214200" cy="206280"/>
          </a:xfrm>
          <a:custGeom>
            <a:avLst/>
            <a:gdLst/>
            <a:ahLst/>
            <a:rect l="l" t="t" r="r" b="b"/>
            <a:pathLst>
              <a:path w="597" h="571">
                <a:moveTo>
                  <a:pt x="13295" y="9401"/>
                </a:moveTo>
                <a:cubicBezTo>
                  <a:pt x="13322" y="9534"/>
                  <a:pt x="13333" y="9682"/>
                  <a:pt x="13345" y="9823"/>
                </a:cubicBezTo>
                <a:cubicBezTo>
                  <a:pt x="13345" y="9864"/>
                  <a:pt x="13345" y="9872"/>
                  <a:pt x="13345" y="9897"/>
                </a:cubicBezTo>
              </a:path>
              <a:path w="597" h="571">
                <a:moveTo>
                  <a:pt x="13171" y="9525"/>
                </a:moveTo>
                <a:cubicBezTo>
                  <a:pt x="13256" y="9418"/>
                  <a:pt x="13384" y="9288"/>
                  <a:pt x="13543" y="9327"/>
                </a:cubicBezTo>
                <a:cubicBezTo>
                  <a:pt x="13708" y="9368"/>
                  <a:pt x="13625" y="9528"/>
                  <a:pt x="13543" y="9599"/>
                </a:cubicBezTo>
                <a:cubicBezTo>
                  <a:pt x="13518" y="9616"/>
                  <a:pt x="13494" y="9632"/>
                  <a:pt x="13469" y="9649"/>
                </a:cubicBezTo>
                <a:cubicBezTo>
                  <a:pt x="13452" y="9649"/>
                  <a:pt x="13436" y="9649"/>
                  <a:pt x="13419" y="9649"/>
                </a:cubicBezTo>
                <a:cubicBezTo>
                  <a:pt x="13480" y="9573"/>
                  <a:pt x="13609" y="9521"/>
                  <a:pt x="13717" y="9575"/>
                </a:cubicBezTo>
                <a:cubicBezTo>
                  <a:pt x="13734" y="9591"/>
                  <a:pt x="13750" y="9608"/>
                  <a:pt x="13767" y="9624"/>
                </a:cubicBezTo>
                <a:cubicBezTo>
                  <a:pt x="13699" y="9803"/>
                  <a:pt x="13610" y="9897"/>
                  <a:pt x="13395" y="9897"/>
                </a:cubicBezTo>
                <a:cubicBezTo>
                  <a:pt x="13395" y="9889"/>
                  <a:pt x="13395" y="9880"/>
                  <a:pt x="13395" y="987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5840280"/>
            <a:ext cx="27000" cy="250920"/>
          </a:xfrm>
          <a:custGeom>
            <a:avLst/>
            <a:gdLst/>
            <a:ahLst/>
            <a:rect l="l" t="t" r="r" b="b"/>
            <a:pathLst>
              <a:path w="75" h="696">
                <a:moveTo>
                  <a:pt x="15974" y="16247"/>
                </a:moveTo>
                <a:cubicBezTo>
                  <a:pt x="15938" y="16211"/>
                  <a:pt x="15953" y="16300"/>
                  <a:pt x="15949" y="16346"/>
                </a:cubicBezTo>
              </a:path>
              <a:path w="75" h="696">
                <a:moveTo>
                  <a:pt x="15900" y="16917"/>
                </a:moveTo>
                <a:lnTo>
                  <a:pt x="15900" y="16917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527800"/>
            <a:ext cx="2133720" cy="830160"/>
          </a:xfrm>
          <a:custGeom>
            <a:avLst/>
            <a:gdLst/>
            <a:ahLst/>
            <a:rect l="l" t="t" r="r" b="b"/>
            <a:pathLst>
              <a:path w="5929" h="2308">
                <a:moveTo>
                  <a:pt x="13419" y="15404"/>
                </a:moveTo>
                <a:cubicBezTo>
                  <a:pt x="13335" y="15404"/>
                  <a:pt x="13256" y="15382"/>
                  <a:pt x="13171" y="15379"/>
                </a:cubicBezTo>
                <a:cubicBezTo>
                  <a:pt x="13130" y="15379"/>
                  <a:pt x="13106" y="15379"/>
                  <a:pt x="13146" y="15379"/>
                </a:cubicBezTo>
                <a:cubicBezTo>
                  <a:pt x="13272" y="15379"/>
                  <a:pt x="13393" y="15360"/>
                  <a:pt x="13519" y="15354"/>
                </a:cubicBezTo>
                <a:cubicBezTo>
                  <a:pt x="13596" y="15351"/>
                  <a:pt x="13420" y="15384"/>
                  <a:pt x="13345" y="15404"/>
                </a:cubicBezTo>
                <a:cubicBezTo>
                  <a:pt x="13288" y="15419"/>
                  <a:pt x="13162" y="15429"/>
                  <a:pt x="13221" y="15429"/>
                </a:cubicBezTo>
                <a:cubicBezTo>
                  <a:pt x="13310" y="15405"/>
                  <a:pt x="13494" y="15352"/>
                  <a:pt x="13494" y="15404"/>
                </a:cubicBezTo>
                <a:cubicBezTo>
                  <a:pt x="13408" y="15417"/>
                  <a:pt x="13259" y="15443"/>
                  <a:pt x="13345" y="15453"/>
                </a:cubicBezTo>
                <a:cubicBezTo>
                  <a:pt x="13436" y="15464"/>
                  <a:pt x="13463" y="15448"/>
                  <a:pt x="13543" y="15478"/>
                </a:cubicBezTo>
              </a:path>
              <a:path w="5929" h="2308">
                <a:moveTo>
                  <a:pt x="15056" y="16321"/>
                </a:moveTo>
                <a:cubicBezTo>
                  <a:pt x="15084" y="16321"/>
                  <a:pt x="15095" y="16319"/>
                  <a:pt x="15106" y="16297"/>
                </a:cubicBezTo>
                <a:cubicBezTo>
                  <a:pt x="14991" y="16480"/>
                  <a:pt x="14898" y="16676"/>
                  <a:pt x="14759" y="16842"/>
                </a:cubicBezTo>
                <a:cubicBezTo>
                  <a:pt x="14715" y="16895"/>
                  <a:pt x="14677" y="16953"/>
                  <a:pt x="14660" y="16917"/>
                </a:cubicBezTo>
              </a:path>
              <a:path w="5929" h="2308">
                <a:moveTo>
                  <a:pt x="15106" y="16247"/>
                </a:moveTo>
                <a:cubicBezTo>
                  <a:pt x="15266" y="16247"/>
                  <a:pt x="15420" y="16235"/>
                  <a:pt x="15577" y="16222"/>
                </a:cubicBezTo>
                <a:cubicBezTo>
                  <a:pt x="15678" y="16214"/>
                  <a:pt x="15774" y="16201"/>
                  <a:pt x="15875" y="16197"/>
                </a:cubicBezTo>
                <a:cubicBezTo>
                  <a:pt x="15935" y="16195"/>
                  <a:pt x="16004" y="16218"/>
                  <a:pt x="16024" y="16222"/>
                </a:cubicBezTo>
                <a:cubicBezTo>
                  <a:pt x="16071" y="16231"/>
                  <a:pt x="16114" y="16203"/>
                  <a:pt x="16148" y="16247"/>
                </a:cubicBezTo>
                <a:cubicBezTo>
                  <a:pt x="16180" y="16289"/>
                  <a:pt x="16203" y="16349"/>
                  <a:pt x="16247" y="16396"/>
                </a:cubicBezTo>
                <a:cubicBezTo>
                  <a:pt x="16309" y="16462"/>
                  <a:pt x="16360" y="16529"/>
                  <a:pt x="16421" y="16594"/>
                </a:cubicBezTo>
                <a:cubicBezTo>
                  <a:pt x="16452" y="16627"/>
                  <a:pt x="16532" y="16705"/>
                  <a:pt x="16545" y="16743"/>
                </a:cubicBezTo>
                <a:cubicBezTo>
                  <a:pt x="16556" y="16777"/>
                  <a:pt x="16551" y="16811"/>
                  <a:pt x="16570" y="16842"/>
                </a:cubicBezTo>
                <a:cubicBezTo>
                  <a:pt x="16594" y="16882"/>
                  <a:pt x="16588" y="16872"/>
                  <a:pt x="16594" y="16917"/>
                </a:cubicBezTo>
              </a:path>
              <a:path w="5929" h="2308">
                <a:moveTo>
                  <a:pt x="15304" y="17611"/>
                </a:moveTo>
                <a:cubicBezTo>
                  <a:pt x="15358" y="17590"/>
                  <a:pt x="15452" y="17611"/>
                  <a:pt x="15528" y="17611"/>
                </a:cubicBezTo>
                <a:cubicBezTo>
                  <a:pt x="15617" y="17611"/>
                  <a:pt x="15694" y="17626"/>
                  <a:pt x="15776" y="17636"/>
                </a:cubicBezTo>
                <a:cubicBezTo>
                  <a:pt x="15819" y="17641"/>
                  <a:pt x="15905" y="17675"/>
                  <a:pt x="15949" y="17661"/>
                </a:cubicBezTo>
                <a:cubicBezTo>
                  <a:pt x="16062" y="17626"/>
                  <a:pt x="16221" y="17393"/>
                  <a:pt x="16321" y="17314"/>
                </a:cubicBezTo>
                <a:cubicBezTo>
                  <a:pt x="16373" y="17272"/>
                  <a:pt x="16402" y="17239"/>
                  <a:pt x="16446" y="17190"/>
                </a:cubicBezTo>
                <a:cubicBezTo>
                  <a:pt x="16484" y="17147"/>
                  <a:pt x="16512" y="17096"/>
                  <a:pt x="16545" y="17041"/>
                </a:cubicBezTo>
                <a:cubicBezTo>
                  <a:pt x="16557" y="17021"/>
                  <a:pt x="16560" y="16987"/>
                  <a:pt x="16570" y="16966"/>
                </a:cubicBezTo>
              </a:path>
              <a:path w="5929" h="2308">
                <a:moveTo>
                  <a:pt x="14511" y="16991"/>
                </a:moveTo>
                <a:cubicBezTo>
                  <a:pt x="14577" y="17024"/>
                  <a:pt x="14599" y="17133"/>
                  <a:pt x="14660" y="17190"/>
                </a:cubicBezTo>
                <a:cubicBezTo>
                  <a:pt x="14723" y="17249"/>
                  <a:pt x="14808" y="17319"/>
                  <a:pt x="14883" y="17363"/>
                </a:cubicBezTo>
                <a:cubicBezTo>
                  <a:pt x="14945" y="17399"/>
                  <a:pt x="14958" y="17443"/>
                  <a:pt x="15007" y="17487"/>
                </a:cubicBezTo>
                <a:cubicBezTo>
                  <a:pt x="15025" y="17503"/>
                  <a:pt x="15101" y="17555"/>
                  <a:pt x="15106" y="17562"/>
                </a:cubicBezTo>
                <a:cubicBezTo>
                  <a:pt x="15116" y="17577"/>
                  <a:pt x="15166" y="17628"/>
                  <a:pt x="15180" y="17636"/>
                </a:cubicBezTo>
                <a:cubicBezTo>
                  <a:pt x="15208" y="17636"/>
                  <a:pt x="15219" y="17634"/>
                  <a:pt x="15230" y="17611"/>
                </a:cubicBezTo>
              </a:path>
              <a:path w="5929" h="2308">
                <a:moveTo>
                  <a:pt x="16718" y="16892"/>
                </a:moveTo>
                <a:cubicBezTo>
                  <a:pt x="17067" y="16948"/>
                  <a:pt x="17406" y="16942"/>
                  <a:pt x="17760" y="16942"/>
                </a:cubicBezTo>
                <a:cubicBezTo>
                  <a:pt x="18094" y="16942"/>
                  <a:pt x="18420" y="16911"/>
                  <a:pt x="18752" y="16892"/>
                </a:cubicBezTo>
              </a:path>
              <a:path w="5929" h="2308">
                <a:moveTo>
                  <a:pt x="16123" y="16123"/>
                </a:moveTo>
                <a:cubicBezTo>
                  <a:pt x="16185" y="16144"/>
                  <a:pt x="16246" y="16157"/>
                  <a:pt x="16321" y="16148"/>
                </a:cubicBezTo>
                <a:cubicBezTo>
                  <a:pt x="16553" y="16120"/>
                  <a:pt x="16782" y="16060"/>
                  <a:pt x="17016" y="16049"/>
                </a:cubicBezTo>
                <a:cubicBezTo>
                  <a:pt x="17326" y="16034"/>
                  <a:pt x="17625" y="16043"/>
                  <a:pt x="17934" y="16049"/>
                </a:cubicBezTo>
                <a:cubicBezTo>
                  <a:pt x="18068" y="16051"/>
                  <a:pt x="18180" y="16029"/>
                  <a:pt x="18306" y="16049"/>
                </a:cubicBezTo>
                <a:cubicBezTo>
                  <a:pt x="18337" y="16054"/>
                  <a:pt x="18430" y="16054"/>
                  <a:pt x="18455" y="16073"/>
                </a:cubicBezTo>
                <a:cubicBezTo>
                  <a:pt x="18455" y="16081"/>
                  <a:pt x="18455" y="16090"/>
                  <a:pt x="18455" y="16098"/>
                </a:cubicBezTo>
              </a:path>
              <a:path w="5929" h="2308">
                <a:moveTo>
                  <a:pt x="18504" y="15949"/>
                </a:moveTo>
                <a:cubicBezTo>
                  <a:pt x="18463" y="16092"/>
                  <a:pt x="18569" y="16290"/>
                  <a:pt x="18653" y="16421"/>
                </a:cubicBezTo>
                <a:cubicBezTo>
                  <a:pt x="18744" y="16564"/>
                  <a:pt x="18880" y="16680"/>
                  <a:pt x="18976" y="16818"/>
                </a:cubicBezTo>
                <a:cubicBezTo>
                  <a:pt x="19002" y="16872"/>
                  <a:pt x="19014" y="16892"/>
                  <a:pt x="19050" y="16917"/>
                </a:cubicBezTo>
              </a:path>
              <a:path w="5929" h="2308">
                <a:moveTo>
                  <a:pt x="19000" y="16917"/>
                </a:moveTo>
                <a:cubicBezTo>
                  <a:pt x="18916" y="17072"/>
                  <a:pt x="18839" y="17225"/>
                  <a:pt x="18728" y="17363"/>
                </a:cubicBezTo>
                <a:cubicBezTo>
                  <a:pt x="18686" y="17415"/>
                  <a:pt x="18666" y="17424"/>
                  <a:pt x="18653" y="17487"/>
                </a:cubicBezTo>
              </a:path>
              <a:path w="5929" h="2308">
                <a:moveTo>
                  <a:pt x="16073" y="17636"/>
                </a:moveTo>
                <a:cubicBezTo>
                  <a:pt x="16197" y="17599"/>
                  <a:pt x="16331" y="17569"/>
                  <a:pt x="16470" y="17562"/>
                </a:cubicBezTo>
                <a:cubicBezTo>
                  <a:pt x="16827" y="17545"/>
                  <a:pt x="17181" y="17574"/>
                  <a:pt x="17537" y="17537"/>
                </a:cubicBezTo>
                <a:cubicBezTo>
                  <a:pt x="17719" y="17518"/>
                  <a:pt x="17902" y="17470"/>
                  <a:pt x="18083" y="17462"/>
                </a:cubicBezTo>
                <a:cubicBezTo>
                  <a:pt x="18223" y="17456"/>
                  <a:pt x="18364" y="17462"/>
                  <a:pt x="18504" y="17462"/>
                </a:cubicBezTo>
              </a:path>
              <a:path w="5929" h="2308">
                <a:moveTo>
                  <a:pt x="14362" y="16346"/>
                </a:moveTo>
                <a:cubicBezTo>
                  <a:pt x="14391" y="16258"/>
                  <a:pt x="14588" y="16557"/>
                  <a:pt x="14635" y="16594"/>
                </a:cubicBezTo>
                <a:cubicBezTo>
                  <a:pt x="14730" y="16670"/>
                  <a:pt x="14729" y="16669"/>
                  <a:pt x="14808" y="16669"/>
                </a:cubicBezTo>
                <a:cubicBezTo>
                  <a:pt x="14779" y="16609"/>
                  <a:pt x="14765" y="16583"/>
                  <a:pt x="14734" y="16545"/>
                </a:cubicBezTo>
              </a:path>
              <a:path w="5929" h="2308">
                <a:moveTo>
                  <a:pt x="14684" y="16371"/>
                </a:moveTo>
                <a:cubicBezTo>
                  <a:pt x="14728" y="16465"/>
                  <a:pt x="14802" y="16549"/>
                  <a:pt x="14833" y="16644"/>
                </a:cubicBezTo>
                <a:cubicBezTo>
                  <a:pt x="14735" y="16700"/>
                  <a:pt x="14626" y="16712"/>
                  <a:pt x="14511" y="16718"/>
                </a:cubicBezTo>
                <a:cubicBezTo>
                  <a:pt x="14486" y="16718"/>
                  <a:pt x="14478" y="16718"/>
                  <a:pt x="14511" y="16718"/>
                </a:cubicBezTo>
              </a:path>
              <a:path w="5929" h="2308">
                <a:moveTo>
                  <a:pt x="14486" y="16371"/>
                </a:moveTo>
                <a:cubicBezTo>
                  <a:pt x="14367" y="16371"/>
                  <a:pt x="14328" y="16314"/>
                  <a:pt x="14238" y="16247"/>
                </a:cubicBezTo>
                <a:cubicBezTo>
                  <a:pt x="14193" y="16213"/>
                  <a:pt x="14136" y="16123"/>
                  <a:pt x="14163" y="16173"/>
                </a:cubicBezTo>
                <a:cubicBezTo>
                  <a:pt x="14273" y="16374"/>
                  <a:pt x="14392" y="16493"/>
                  <a:pt x="14560" y="16644"/>
                </a:cubicBezTo>
                <a:cubicBezTo>
                  <a:pt x="14599" y="16683"/>
                  <a:pt x="14601" y="16700"/>
                  <a:pt x="14635" y="16694"/>
                </a:cubicBezTo>
              </a:path>
              <a:path w="5929" h="2308">
                <a:moveTo>
                  <a:pt x="14511" y="16272"/>
                </a:moveTo>
                <a:cubicBezTo>
                  <a:pt x="14578" y="16373"/>
                  <a:pt x="14642" y="16488"/>
                  <a:pt x="14709" y="16594"/>
                </a:cubicBezTo>
                <a:cubicBezTo>
                  <a:pt x="14729" y="16635"/>
                  <a:pt x="14738" y="16641"/>
                  <a:pt x="14734" y="16669"/>
                </a:cubicBezTo>
                <a:cubicBezTo>
                  <a:pt x="14634" y="16689"/>
                  <a:pt x="14543" y="16715"/>
                  <a:pt x="14436" y="16718"/>
                </a:cubicBezTo>
                <a:cubicBezTo>
                  <a:pt x="14411" y="16718"/>
                  <a:pt x="14387" y="16718"/>
                  <a:pt x="14362" y="16718"/>
                </a:cubicBezTo>
              </a:path>
              <a:path w="5929" h="2308">
                <a:moveTo>
                  <a:pt x="15925" y="16669"/>
                </a:moveTo>
                <a:cubicBezTo>
                  <a:pt x="15925" y="16718"/>
                  <a:pt x="15925" y="16735"/>
                  <a:pt x="15925" y="16768"/>
                </a:cubicBezTo>
              </a:path>
              <a:path w="5929" h="2308">
                <a:moveTo>
                  <a:pt x="15900" y="16842"/>
                </a:moveTo>
                <a:cubicBezTo>
                  <a:pt x="15900" y="16884"/>
                  <a:pt x="15900" y="16892"/>
                  <a:pt x="15900" y="16917"/>
                </a:cubicBezTo>
              </a:path>
              <a:path w="5929" h="2308">
                <a:moveTo>
                  <a:pt x="15900" y="17016"/>
                </a:moveTo>
                <a:cubicBezTo>
                  <a:pt x="15900" y="17074"/>
                  <a:pt x="15897" y="17094"/>
                  <a:pt x="15925" y="1714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2800" y="5919840"/>
            <a:ext cx="55440" cy="384120"/>
          </a:xfrm>
          <a:custGeom>
            <a:avLst/>
            <a:gdLst/>
            <a:ahLst/>
            <a:rect l="l" t="t" r="r" b="b"/>
            <a:pathLst>
              <a:path w="150" h="1067">
                <a:moveTo>
                  <a:pt x="15056" y="16446"/>
                </a:moveTo>
                <a:cubicBezTo>
                  <a:pt x="15048" y="16446"/>
                  <a:pt x="15040" y="16446"/>
                  <a:pt x="15032" y="16446"/>
                </a:cubicBezTo>
              </a:path>
              <a:path w="150" h="1067">
                <a:moveTo>
                  <a:pt x="15007" y="16694"/>
                </a:moveTo>
                <a:cubicBezTo>
                  <a:pt x="14999" y="16702"/>
                  <a:pt x="14990" y="16710"/>
                  <a:pt x="14982" y="16718"/>
                </a:cubicBezTo>
              </a:path>
              <a:path w="150" h="1067">
                <a:moveTo>
                  <a:pt x="14982" y="16793"/>
                </a:moveTo>
                <a:lnTo>
                  <a:pt x="14982" y="16793"/>
                </a:lnTo>
                <a:lnTo>
                  <a:pt x="14982" y="16793"/>
                </a:lnTo>
              </a:path>
              <a:path w="150" h="1067">
                <a:moveTo>
                  <a:pt x="15032" y="16892"/>
                </a:moveTo>
                <a:cubicBezTo>
                  <a:pt x="15032" y="16900"/>
                  <a:pt x="15032" y="16909"/>
                  <a:pt x="15032" y="16917"/>
                </a:cubicBezTo>
              </a:path>
              <a:path w="150" h="1067">
                <a:moveTo>
                  <a:pt x="15032" y="16917"/>
                </a:moveTo>
                <a:lnTo>
                  <a:pt x="15032" y="16917"/>
                </a:lnTo>
              </a:path>
              <a:path w="150" h="1067">
                <a:moveTo>
                  <a:pt x="15032" y="17165"/>
                </a:moveTo>
                <a:cubicBezTo>
                  <a:pt x="15032" y="17173"/>
                  <a:pt x="15032" y="17182"/>
                  <a:pt x="15032" y="17190"/>
                </a:cubicBezTo>
              </a:path>
              <a:path w="150" h="1067">
                <a:moveTo>
                  <a:pt x="15056" y="17264"/>
                </a:moveTo>
                <a:cubicBezTo>
                  <a:pt x="15056" y="17272"/>
                  <a:pt x="15056" y="17281"/>
                  <a:pt x="15056" y="17289"/>
                </a:cubicBezTo>
              </a:path>
              <a:path w="150" h="1067">
                <a:moveTo>
                  <a:pt x="15056" y="17289"/>
                </a:moveTo>
                <a:lnTo>
                  <a:pt x="15056" y="17289"/>
                </a:lnTo>
              </a:path>
              <a:path w="150" h="1067">
                <a:moveTo>
                  <a:pt x="15131" y="17487"/>
                </a:moveTo>
                <a:cubicBezTo>
                  <a:pt x="15131" y="17495"/>
                  <a:pt x="15131" y="17504"/>
                  <a:pt x="15131" y="175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42000" y="6232680"/>
            <a:ext cx="36360" cy="98280"/>
          </a:xfrm>
          <a:custGeom>
            <a:avLst/>
            <a:gdLst/>
            <a:ahLst/>
            <a:rect l="l" t="t" r="r" b="b"/>
            <a:pathLst>
              <a:path w="101" h="274">
                <a:moveTo>
                  <a:pt x="15949" y="17314"/>
                </a:moveTo>
                <a:cubicBezTo>
                  <a:pt x="15969" y="17354"/>
                  <a:pt x="15978" y="17360"/>
                  <a:pt x="15974" y="17388"/>
                </a:cubicBezTo>
              </a:path>
              <a:path w="101" h="274">
                <a:moveTo>
                  <a:pt x="15974" y="17388"/>
                </a:moveTo>
                <a:lnTo>
                  <a:pt x="15974" y="17388"/>
                </a:lnTo>
              </a:path>
              <a:path w="101" h="274">
                <a:moveTo>
                  <a:pt x="16049" y="17562"/>
                </a:moveTo>
                <a:cubicBezTo>
                  <a:pt x="16049" y="17570"/>
                  <a:pt x="16049" y="17579"/>
                  <a:pt x="16049" y="175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920160" y="534960"/>
            <a:ext cx="4155120" cy="2685960"/>
            <a:chOff x="920160" y="534960"/>
            <a:chExt cx="4155120" cy="2685960"/>
          </a:xfrm>
        </p:grpSpPr>
        <p:sp>
          <p:nvSpPr>
            <p:cNvPr id="59" name=""/>
            <p:cNvSpPr/>
            <p:nvPr/>
          </p:nvSpPr>
          <p:spPr>
            <a:xfrm rot="1123200">
              <a:off x="1142640" y="914400"/>
              <a:ext cx="2666880" cy="182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41360" y="25477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3680" y="28526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13160" y="1557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2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90720" y="3886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V=l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648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720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743200" y="3886200"/>
                <a:ext cx="24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19520" y="4800600"/>
                <a:ext cx="32004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486400" y="3808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V=lw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1027080"/>
            <a:ext cx="295200" cy="411120"/>
          </a:xfrm>
          <a:custGeom>
            <a:avLst/>
            <a:gdLst/>
            <a:ahLst/>
            <a:rect l="l" t="t" r="r" b="b"/>
            <a:pathLst>
              <a:path w="820" h="1142">
                <a:moveTo>
                  <a:pt x="17462" y="2853"/>
                </a:moveTo>
                <a:cubicBezTo>
                  <a:pt x="17493" y="2961"/>
                  <a:pt x="17512" y="3032"/>
                  <a:pt x="17512" y="3150"/>
                </a:cubicBezTo>
                <a:cubicBezTo>
                  <a:pt x="17512" y="3158"/>
                  <a:pt x="17512" y="3167"/>
                  <a:pt x="17512" y="3175"/>
                </a:cubicBezTo>
                <a:cubicBezTo>
                  <a:pt x="17652" y="3175"/>
                  <a:pt x="17731" y="3148"/>
                  <a:pt x="17884" y="3175"/>
                </a:cubicBezTo>
                <a:cubicBezTo>
                  <a:pt x="18008" y="3197"/>
                  <a:pt x="18113" y="3245"/>
                  <a:pt x="18231" y="3274"/>
                </a:cubicBezTo>
                <a:cubicBezTo>
                  <a:pt x="18231" y="3165"/>
                  <a:pt x="18248" y="3060"/>
                  <a:pt x="18256" y="2952"/>
                </a:cubicBezTo>
              </a:path>
              <a:path w="820" h="1142">
                <a:moveTo>
                  <a:pt x="17636" y="3423"/>
                </a:moveTo>
                <a:cubicBezTo>
                  <a:pt x="17726" y="3401"/>
                  <a:pt x="18185" y="3234"/>
                  <a:pt x="18132" y="3497"/>
                </a:cubicBezTo>
                <a:cubicBezTo>
                  <a:pt x="18114" y="3586"/>
                  <a:pt x="18003" y="3671"/>
                  <a:pt x="17983" y="3671"/>
                </a:cubicBezTo>
                <a:cubicBezTo>
                  <a:pt x="18148" y="3642"/>
                  <a:pt x="18492" y="3721"/>
                  <a:pt x="18182" y="3944"/>
                </a:cubicBezTo>
                <a:cubicBezTo>
                  <a:pt x="18095" y="4007"/>
                  <a:pt x="17982" y="3994"/>
                  <a:pt x="17884" y="39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2240" y="1231920"/>
            <a:ext cx="19080" cy="206280"/>
          </a:xfrm>
          <a:custGeom>
            <a:avLst/>
            <a:gdLst/>
            <a:ahLst/>
            <a:rect l="l" t="t" r="r" b="b"/>
            <a:pathLst>
              <a:path w="51" h="572">
                <a:moveTo>
                  <a:pt x="17835" y="3423"/>
                </a:moveTo>
                <a:cubicBezTo>
                  <a:pt x="17820" y="3611"/>
                  <a:pt x="17831" y="3812"/>
                  <a:pt x="17785" y="3994"/>
                </a:cubicBezTo>
                <a:cubicBezTo>
                  <a:pt x="17785" y="3977"/>
                  <a:pt x="17785" y="3961"/>
                  <a:pt x="17785" y="39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7280" y="3017880"/>
            <a:ext cx="312840" cy="492120"/>
          </a:xfrm>
          <a:custGeom>
            <a:avLst/>
            <a:gdLst/>
            <a:ahLst/>
            <a:rect l="l" t="t" r="r" b="b"/>
            <a:pathLst>
              <a:path w="869" h="1365">
                <a:moveTo>
                  <a:pt x="10145" y="9178"/>
                </a:moveTo>
                <a:cubicBezTo>
                  <a:pt x="10136" y="9214"/>
                  <a:pt x="10124" y="9223"/>
                  <a:pt x="10096" y="9252"/>
                </a:cubicBezTo>
                <a:cubicBezTo>
                  <a:pt x="10031" y="9188"/>
                  <a:pt x="10016" y="9013"/>
                  <a:pt x="9996" y="8905"/>
                </a:cubicBezTo>
                <a:cubicBezTo>
                  <a:pt x="9979" y="8813"/>
                  <a:pt x="9953" y="8698"/>
                  <a:pt x="9947" y="8607"/>
                </a:cubicBezTo>
                <a:cubicBezTo>
                  <a:pt x="9944" y="8562"/>
                  <a:pt x="9900" y="8527"/>
                  <a:pt x="9872" y="8508"/>
                </a:cubicBezTo>
                <a:cubicBezTo>
                  <a:pt x="9865" y="8621"/>
                  <a:pt x="9848" y="8719"/>
                  <a:pt x="9823" y="8830"/>
                </a:cubicBezTo>
                <a:cubicBezTo>
                  <a:pt x="9771" y="8813"/>
                  <a:pt x="9837" y="8569"/>
                  <a:pt x="9847" y="8533"/>
                </a:cubicBezTo>
                <a:cubicBezTo>
                  <a:pt x="9868" y="8459"/>
                  <a:pt x="9877" y="8399"/>
                  <a:pt x="9922" y="8384"/>
                </a:cubicBezTo>
                <a:cubicBezTo>
                  <a:pt x="9964" y="8442"/>
                  <a:pt x="10019" y="8562"/>
                  <a:pt x="10071" y="8607"/>
                </a:cubicBezTo>
                <a:cubicBezTo>
                  <a:pt x="10079" y="8607"/>
                  <a:pt x="10088" y="8607"/>
                  <a:pt x="10096" y="8607"/>
                </a:cubicBezTo>
              </a:path>
              <a:path w="869" h="1365">
                <a:moveTo>
                  <a:pt x="10294" y="9327"/>
                </a:moveTo>
                <a:cubicBezTo>
                  <a:pt x="10328" y="9458"/>
                  <a:pt x="10367" y="9594"/>
                  <a:pt x="10393" y="9723"/>
                </a:cubicBezTo>
                <a:cubicBezTo>
                  <a:pt x="10332" y="9479"/>
                  <a:pt x="10344" y="9387"/>
                  <a:pt x="10468" y="9178"/>
                </a:cubicBezTo>
                <a:cubicBezTo>
                  <a:pt x="10519" y="9195"/>
                  <a:pt x="10484" y="9359"/>
                  <a:pt x="10418" y="9451"/>
                </a:cubicBezTo>
                <a:cubicBezTo>
                  <a:pt x="10351" y="9545"/>
                  <a:pt x="10638" y="9339"/>
                  <a:pt x="10666" y="9451"/>
                </a:cubicBezTo>
                <a:cubicBezTo>
                  <a:pt x="10705" y="9609"/>
                  <a:pt x="10509" y="9715"/>
                  <a:pt x="10393" y="974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48040" y="4313160"/>
            <a:ext cx="474840" cy="204840"/>
          </a:xfrm>
          <a:custGeom>
            <a:avLst/>
            <a:gdLst/>
            <a:ahLst/>
            <a:rect l="l" t="t" r="r" b="b"/>
            <a:pathLst>
              <a:path w="1315" h="571">
                <a:moveTo>
                  <a:pt x="10691" y="12055"/>
                </a:moveTo>
                <a:cubicBezTo>
                  <a:pt x="10702" y="12181"/>
                  <a:pt x="10713" y="12300"/>
                  <a:pt x="10716" y="12427"/>
                </a:cubicBezTo>
                <a:cubicBezTo>
                  <a:pt x="10716" y="12452"/>
                  <a:pt x="10716" y="12477"/>
                  <a:pt x="10716" y="12502"/>
                </a:cubicBezTo>
                <a:cubicBezTo>
                  <a:pt x="10915" y="12525"/>
                  <a:pt x="11139" y="12381"/>
                  <a:pt x="11385" y="12427"/>
                </a:cubicBezTo>
                <a:cubicBezTo>
                  <a:pt x="11514" y="12451"/>
                  <a:pt x="11653" y="12524"/>
                  <a:pt x="11782" y="12551"/>
                </a:cubicBezTo>
                <a:cubicBezTo>
                  <a:pt x="11790" y="12551"/>
                  <a:pt x="11799" y="12551"/>
                  <a:pt x="11807" y="12551"/>
                </a:cubicBezTo>
                <a:cubicBezTo>
                  <a:pt x="11825" y="12407"/>
                  <a:pt x="11901" y="12214"/>
                  <a:pt x="11956" y="12080"/>
                </a:cubicBezTo>
                <a:cubicBezTo>
                  <a:pt x="11993" y="12023"/>
                  <a:pt x="12009" y="12020"/>
                  <a:pt x="12005" y="1198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54320" y="2152800"/>
            <a:ext cx="160560" cy="125280"/>
          </a:xfrm>
          <a:custGeom>
            <a:avLst/>
            <a:gdLst/>
            <a:ahLst/>
            <a:rect l="l" t="t" r="r" b="b"/>
            <a:pathLst>
              <a:path w="448" h="348">
                <a:moveTo>
                  <a:pt x="11683" y="6028"/>
                </a:moveTo>
                <a:cubicBezTo>
                  <a:pt x="11791" y="6028"/>
                  <a:pt x="11517" y="6018"/>
                  <a:pt x="11410" y="6028"/>
                </a:cubicBezTo>
                <a:cubicBezTo>
                  <a:pt x="11319" y="6046"/>
                  <a:pt x="11312" y="6054"/>
                  <a:pt x="11261" y="6052"/>
                </a:cubicBezTo>
              </a:path>
              <a:path w="448" h="348">
                <a:moveTo>
                  <a:pt x="11286" y="6052"/>
                </a:moveTo>
                <a:cubicBezTo>
                  <a:pt x="11269" y="6137"/>
                  <a:pt x="11251" y="6188"/>
                  <a:pt x="11286" y="6276"/>
                </a:cubicBezTo>
                <a:cubicBezTo>
                  <a:pt x="11316" y="6350"/>
                  <a:pt x="11327" y="6314"/>
                  <a:pt x="11286" y="6300"/>
                </a:cubicBezTo>
                <a:cubicBezTo>
                  <a:pt x="11267" y="6105"/>
                  <a:pt x="11237" y="6081"/>
                  <a:pt x="11435" y="6028"/>
                </a:cubicBezTo>
                <a:cubicBezTo>
                  <a:pt x="11503" y="6010"/>
                  <a:pt x="11587" y="5981"/>
                  <a:pt x="11609" y="60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121040" y="1081440"/>
            <a:ext cx="4441680" cy="2447640"/>
            <a:chOff x="1121040" y="1081440"/>
            <a:chExt cx="4441680" cy="2447640"/>
          </a:xfrm>
        </p:grpSpPr>
        <p:sp>
          <p:nvSpPr>
            <p:cNvPr id="75" name=""/>
            <p:cNvSpPr/>
            <p:nvPr/>
          </p:nvSpPr>
          <p:spPr>
            <a:xfrm rot="1283400">
              <a:off x="1301760" y="1542960"/>
              <a:ext cx="2819520" cy="1524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5440" y="299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 y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02200" y="3048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 y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55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 y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8580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Base = l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3886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362480" y="32958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590920" y="4114800"/>
                <a:ext cx="1523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914400" y="5334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00800" y="4495680"/>
                <a:ext cx="205740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 flipH="1" flipV="1">
            <a:off x="2666880" y="3276720"/>
            <a:ext cx="60984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809880" y="33523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304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V=B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598320"/>
            <a:ext cx="250920" cy="125640"/>
          </a:xfrm>
          <a:custGeom>
            <a:avLst/>
            <a:gdLst/>
            <a:ahLst/>
            <a:rect l="l" t="t" r="r" b="b"/>
            <a:pathLst>
              <a:path w="696" h="348">
                <a:moveTo>
                  <a:pt x="19496" y="1786"/>
                </a:moveTo>
                <a:cubicBezTo>
                  <a:pt x="19506" y="1755"/>
                  <a:pt x="19815" y="1717"/>
                  <a:pt x="19844" y="1712"/>
                </a:cubicBezTo>
                <a:cubicBezTo>
                  <a:pt x="19936" y="1697"/>
                  <a:pt x="20178" y="1590"/>
                  <a:pt x="20117" y="1736"/>
                </a:cubicBezTo>
              </a:path>
              <a:path w="696" h="348">
                <a:moveTo>
                  <a:pt x="19546" y="2009"/>
                </a:moveTo>
                <a:cubicBezTo>
                  <a:pt x="19761" y="1987"/>
                  <a:pt x="19977" y="1959"/>
                  <a:pt x="20191" y="19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00960" y="473040"/>
            <a:ext cx="750960" cy="428760"/>
          </a:xfrm>
          <a:custGeom>
            <a:avLst/>
            <a:gdLst/>
            <a:ahLst/>
            <a:rect l="l" t="t" r="r" b="b"/>
            <a:pathLst>
              <a:path w="2085" h="1191">
                <a:moveTo>
                  <a:pt x="20836" y="1364"/>
                </a:moveTo>
                <a:cubicBezTo>
                  <a:pt x="20845" y="1329"/>
                  <a:pt x="20856" y="1281"/>
                  <a:pt x="20836" y="1339"/>
                </a:cubicBezTo>
                <a:cubicBezTo>
                  <a:pt x="20836" y="1711"/>
                  <a:pt x="20836" y="2084"/>
                  <a:pt x="20836" y="2456"/>
                </a:cubicBezTo>
              </a:path>
              <a:path w="2085" h="1191">
                <a:moveTo>
                  <a:pt x="21282" y="1885"/>
                </a:moveTo>
                <a:cubicBezTo>
                  <a:pt x="21282" y="1859"/>
                  <a:pt x="21217" y="2222"/>
                  <a:pt x="21208" y="2307"/>
                </a:cubicBezTo>
                <a:cubicBezTo>
                  <a:pt x="21208" y="2340"/>
                  <a:pt x="21208" y="2373"/>
                  <a:pt x="21208" y="2406"/>
                </a:cubicBezTo>
                <a:cubicBezTo>
                  <a:pt x="21369" y="2377"/>
                  <a:pt x="21519" y="2303"/>
                  <a:pt x="21580" y="2133"/>
                </a:cubicBezTo>
                <a:cubicBezTo>
                  <a:pt x="21602" y="2071"/>
                  <a:pt x="21593" y="2016"/>
                  <a:pt x="21580" y="2009"/>
                </a:cubicBezTo>
                <a:cubicBezTo>
                  <a:pt x="21584" y="2062"/>
                  <a:pt x="21584" y="2408"/>
                  <a:pt x="21729" y="2356"/>
                </a:cubicBezTo>
                <a:cubicBezTo>
                  <a:pt x="21902" y="2294"/>
                  <a:pt x="21947" y="2094"/>
                  <a:pt x="21853" y="1960"/>
                </a:cubicBezTo>
                <a:cubicBezTo>
                  <a:pt x="21799" y="1906"/>
                  <a:pt x="21777" y="1885"/>
                  <a:pt x="21729" y="1860"/>
                </a:cubicBezTo>
              </a:path>
              <a:path w="2085" h="1191">
                <a:moveTo>
                  <a:pt x="22200" y="1414"/>
                </a:moveTo>
                <a:cubicBezTo>
                  <a:pt x="22240" y="1707"/>
                  <a:pt x="22250" y="1984"/>
                  <a:pt x="22250" y="2282"/>
                </a:cubicBezTo>
                <a:cubicBezTo>
                  <a:pt x="22250" y="2373"/>
                  <a:pt x="22250" y="2381"/>
                  <a:pt x="22250" y="2431"/>
                </a:cubicBezTo>
                <a:cubicBezTo>
                  <a:pt x="22303" y="2200"/>
                  <a:pt x="22401" y="2019"/>
                  <a:pt x="22547" y="1836"/>
                </a:cubicBezTo>
                <a:cubicBezTo>
                  <a:pt x="22555" y="1828"/>
                  <a:pt x="22564" y="1819"/>
                  <a:pt x="22572" y="1811"/>
                </a:cubicBezTo>
                <a:cubicBezTo>
                  <a:pt x="22664" y="1994"/>
                  <a:pt x="22618" y="2201"/>
                  <a:pt x="22696" y="2406"/>
                </a:cubicBezTo>
                <a:cubicBezTo>
                  <a:pt x="22741" y="2523"/>
                  <a:pt x="22860" y="2511"/>
                  <a:pt x="22920" y="2480"/>
                </a:cubicBezTo>
                <a:cubicBezTo>
                  <a:pt x="22920" y="2472"/>
                  <a:pt x="22920" y="2464"/>
                  <a:pt x="22920" y="24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1177920"/>
            <a:ext cx="893880" cy="81000"/>
          </a:xfrm>
          <a:custGeom>
            <a:avLst/>
            <a:gdLst/>
            <a:ahLst/>
            <a:rect l="l" t="t" r="r" b="b"/>
            <a:pathLst>
              <a:path w="2482" h="224">
                <a:moveTo>
                  <a:pt x="15478" y="3274"/>
                </a:moveTo>
                <a:cubicBezTo>
                  <a:pt x="15864" y="3274"/>
                  <a:pt x="16233" y="3290"/>
                  <a:pt x="16619" y="3324"/>
                </a:cubicBezTo>
                <a:cubicBezTo>
                  <a:pt x="17063" y="3363"/>
                  <a:pt x="17495" y="3427"/>
                  <a:pt x="17934" y="3497"/>
                </a:cubicBezTo>
                <a:cubicBezTo>
                  <a:pt x="17942" y="3497"/>
                  <a:pt x="17951" y="3497"/>
                  <a:pt x="17959" y="349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f15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Find the volume using V=l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d39e8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62320" y="3048120"/>
            <a:ext cx="4343400" cy="2641320"/>
            <a:chOff x="2362320" y="3048120"/>
            <a:chExt cx="4343400" cy="2641320"/>
          </a:xfrm>
        </p:grpSpPr>
        <p:sp>
          <p:nvSpPr>
            <p:cNvPr id="94" name=""/>
            <p:cNvSpPr/>
            <p:nvPr/>
          </p:nvSpPr>
          <p:spPr>
            <a:xfrm>
              <a:off x="2362320" y="3962160"/>
              <a:ext cx="22860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5321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2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8160" y="4572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6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960" y="30481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0000" y="1009800"/>
            <a:ext cx="4116240" cy="4572000"/>
          </a:xfrm>
          <a:custGeom>
            <a:avLst/>
            <a:gdLst/>
            <a:ahLst/>
            <a:rect l="l" t="t" r="r" b="b"/>
            <a:pathLst>
              <a:path w="11436" h="12701">
                <a:moveTo>
                  <a:pt x="18653" y="2803"/>
                </a:moveTo>
                <a:lnTo>
                  <a:pt x="18653" y="2803"/>
                </a:lnTo>
              </a:path>
              <a:path w="11436" h="12701">
                <a:moveTo>
                  <a:pt x="20513" y="15106"/>
                </a:moveTo>
                <a:cubicBezTo>
                  <a:pt x="20530" y="15114"/>
                  <a:pt x="20546" y="15123"/>
                  <a:pt x="20563" y="15131"/>
                </a:cubicBezTo>
              </a:path>
              <a:path w="11436" h="12701">
                <a:moveTo>
                  <a:pt x="24333" y="13543"/>
                </a:moveTo>
                <a:cubicBezTo>
                  <a:pt x="24368" y="13578"/>
                  <a:pt x="24390" y="13582"/>
                  <a:pt x="24433" y="13543"/>
                </a:cubicBezTo>
              </a:path>
              <a:path w="11436" h="12701">
                <a:moveTo>
                  <a:pt x="13494" y="15478"/>
                </a:moveTo>
                <a:cubicBezTo>
                  <a:pt x="13502" y="15486"/>
                  <a:pt x="13511" y="15495"/>
                  <a:pt x="13519" y="15503"/>
                </a:cubicBezTo>
              </a:path>
              <a:path w="11436" h="12701">
                <a:moveTo>
                  <a:pt x="12998" y="13841"/>
                </a:moveTo>
                <a:lnTo>
                  <a:pt x="12998" y="13841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67320" y="1081080"/>
            <a:ext cx="1187640" cy="741240"/>
          </a:xfrm>
          <a:custGeom>
            <a:avLst/>
            <a:gdLst/>
            <a:ahLst/>
            <a:rect l="l" t="t" r="r" b="b"/>
            <a:pathLst>
              <a:path w="3300" h="2060">
                <a:moveTo>
                  <a:pt x="17686" y="3150"/>
                </a:moveTo>
                <a:cubicBezTo>
                  <a:pt x="17879" y="3097"/>
                  <a:pt x="18103" y="3103"/>
                  <a:pt x="18306" y="3101"/>
                </a:cubicBezTo>
                <a:cubicBezTo>
                  <a:pt x="18844" y="3096"/>
                  <a:pt x="19381" y="3098"/>
                  <a:pt x="19918" y="3076"/>
                </a:cubicBezTo>
                <a:cubicBezTo>
                  <a:pt x="20154" y="3066"/>
                  <a:pt x="20403" y="3077"/>
                  <a:pt x="20638" y="3051"/>
                </a:cubicBezTo>
                <a:cubicBezTo>
                  <a:pt x="20746" y="3039"/>
                  <a:pt x="20853" y="3014"/>
                  <a:pt x="20960" y="3001"/>
                </a:cubicBezTo>
                <a:cubicBezTo>
                  <a:pt x="20968" y="3001"/>
                  <a:pt x="20977" y="3001"/>
                  <a:pt x="20985" y="3001"/>
                </a:cubicBezTo>
              </a:path>
              <a:path w="3300" h="2060">
                <a:moveTo>
                  <a:pt x="20216" y="4787"/>
                </a:moveTo>
                <a:cubicBezTo>
                  <a:pt x="20198" y="4781"/>
                  <a:pt x="20161" y="4722"/>
                  <a:pt x="20191" y="4688"/>
                </a:cubicBezTo>
                <a:cubicBezTo>
                  <a:pt x="20297" y="4567"/>
                  <a:pt x="20423" y="4584"/>
                  <a:pt x="20563" y="4614"/>
                </a:cubicBezTo>
                <a:cubicBezTo>
                  <a:pt x="20638" y="4630"/>
                  <a:pt x="20767" y="4636"/>
                  <a:pt x="20836" y="4663"/>
                </a:cubicBezTo>
                <a:cubicBezTo>
                  <a:pt x="20892" y="4684"/>
                  <a:pt x="20880" y="4954"/>
                  <a:pt x="20886" y="5011"/>
                </a:cubicBezTo>
                <a:cubicBezTo>
                  <a:pt x="20886" y="5027"/>
                  <a:pt x="20886" y="5044"/>
                  <a:pt x="20886" y="5060"/>
                </a:cubicBezTo>
              </a:path>
              <a:path w="3300" h="2060">
                <a:moveTo>
                  <a:pt x="20365" y="4093"/>
                </a:moveTo>
                <a:cubicBezTo>
                  <a:pt x="20365" y="4012"/>
                  <a:pt x="20434" y="4372"/>
                  <a:pt x="20439" y="4390"/>
                </a:cubicBezTo>
                <a:cubicBezTo>
                  <a:pt x="20462" y="4479"/>
                  <a:pt x="20500" y="4512"/>
                  <a:pt x="20414" y="4440"/>
                </a:cubicBezTo>
              </a:path>
              <a:path w="3300" h="2060">
                <a:moveTo>
                  <a:pt x="20166" y="4018"/>
                </a:moveTo>
                <a:cubicBezTo>
                  <a:pt x="20389" y="3916"/>
                  <a:pt x="20499" y="3932"/>
                  <a:pt x="20737" y="3969"/>
                </a:cubicBezTo>
                <a:cubicBezTo>
                  <a:pt x="20716" y="4105"/>
                  <a:pt x="20664" y="4191"/>
                  <a:pt x="20538" y="4266"/>
                </a:cubicBezTo>
                <a:cubicBezTo>
                  <a:pt x="20530" y="4266"/>
                  <a:pt x="20521" y="4266"/>
                  <a:pt x="20513" y="4266"/>
                </a:cubicBezTo>
                <a:cubicBezTo>
                  <a:pt x="20663" y="4208"/>
                  <a:pt x="20747" y="4217"/>
                  <a:pt x="20886" y="4291"/>
                </a:cubicBezTo>
                <a:cubicBezTo>
                  <a:pt x="20809" y="4455"/>
                  <a:pt x="20758" y="4454"/>
                  <a:pt x="20588" y="45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27920" y="2044800"/>
            <a:ext cx="160200" cy="27000"/>
          </a:xfrm>
          <a:custGeom>
            <a:avLst/>
            <a:gdLst/>
            <a:ahLst/>
            <a:rect l="l" t="t" r="r" b="b"/>
            <a:pathLst>
              <a:path w="448" h="76">
                <a:moveTo>
                  <a:pt x="19521" y="5755"/>
                </a:moveTo>
                <a:cubicBezTo>
                  <a:pt x="19669" y="5722"/>
                  <a:pt x="19817" y="5693"/>
                  <a:pt x="19968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80160" y="1812960"/>
            <a:ext cx="1106640" cy="482400"/>
          </a:xfrm>
          <a:custGeom>
            <a:avLst/>
            <a:gdLst/>
            <a:ahLst/>
            <a:rect l="l" t="t" r="r" b="b"/>
            <a:pathLst>
              <a:path w="3077" h="1341">
                <a:moveTo>
                  <a:pt x="18554" y="5035"/>
                </a:moveTo>
                <a:cubicBezTo>
                  <a:pt x="18739" y="5368"/>
                  <a:pt x="18898" y="5755"/>
                  <a:pt x="19000" y="6127"/>
                </a:cubicBezTo>
                <a:cubicBezTo>
                  <a:pt x="19020" y="6268"/>
                  <a:pt x="19019" y="6296"/>
                  <a:pt x="19050" y="6375"/>
                </a:cubicBezTo>
                <a:cubicBezTo>
                  <a:pt x="19066" y="6088"/>
                  <a:pt x="19062" y="5779"/>
                  <a:pt x="19174" y="5507"/>
                </a:cubicBezTo>
                <a:cubicBezTo>
                  <a:pt x="19223" y="5387"/>
                  <a:pt x="19360" y="5268"/>
                  <a:pt x="19422" y="5259"/>
                </a:cubicBezTo>
              </a:path>
              <a:path w="3077" h="1341">
                <a:moveTo>
                  <a:pt x="19596" y="6003"/>
                </a:moveTo>
                <a:cubicBezTo>
                  <a:pt x="19773" y="5981"/>
                  <a:pt x="19940" y="5960"/>
                  <a:pt x="20117" y="5953"/>
                </a:cubicBezTo>
              </a:path>
              <a:path w="3077" h="1341">
                <a:moveTo>
                  <a:pt x="20241" y="5135"/>
                </a:moveTo>
                <a:cubicBezTo>
                  <a:pt x="20271" y="5443"/>
                  <a:pt x="20360" y="5743"/>
                  <a:pt x="20389" y="6052"/>
                </a:cubicBezTo>
                <a:cubicBezTo>
                  <a:pt x="20396" y="6126"/>
                  <a:pt x="20332" y="6412"/>
                  <a:pt x="20414" y="6251"/>
                </a:cubicBezTo>
              </a:path>
              <a:path w="3077" h="1341">
                <a:moveTo>
                  <a:pt x="20786" y="5631"/>
                </a:moveTo>
                <a:cubicBezTo>
                  <a:pt x="20786" y="5706"/>
                  <a:pt x="20742" y="6239"/>
                  <a:pt x="20836" y="6251"/>
                </a:cubicBezTo>
                <a:cubicBezTo>
                  <a:pt x="20995" y="6270"/>
                  <a:pt x="21064" y="5908"/>
                  <a:pt x="21109" y="5804"/>
                </a:cubicBezTo>
                <a:cubicBezTo>
                  <a:pt x="21145" y="5876"/>
                  <a:pt x="21079" y="6140"/>
                  <a:pt x="21258" y="6201"/>
                </a:cubicBezTo>
                <a:cubicBezTo>
                  <a:pt x="21575" y="6309"/>
                  <a:pt x="21664" y="5862"/>
                  <a:pt x="21530" y="5680"/>
                </a:cubicBezTo>
                <a:cubicBezTo>
                  <a:pt x="21440" y="5613"/>
                  <a:pt x="21417" y="5595"/>
                  <a:pt x="21357" y="55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6720" y="1847880"/>
            <a:ext cx="347400" cy="411120"/>
          </a:xfrm>
          <a:custGeom>
            <a:avLst/>
            <a:gdLst/>
            <a:ahLst/>
            <a:rect l="l" t="t" r="r" b="b"/>
            <a:pathLst>
              <a:path w="968" h="1142">
                <a:moveTo>
                  <a:pt x="22101" y="5135"/>
                </a:moveTo>
                <a:cubicBezTo>
                  <a:pt x="22136" y="5441"/>
                  <a:pt x="22158" y="5748"/>
                  <a:pt x="22200" y="6052"/>
                </a:cubicBezTo>
                <a:cubicBezTo>
                  <a:pt x="22200" y="6060"/>
                  <a:pt x="22200" y="6069"/>
                  <a:pt x="22200" y="6077"/>
                </a:cubicBezTo>
                <a:cubicBezTo>
                  <a:pt x="22214" y="5875"/>
                  <a:pt x="22225" y="5628"/>
                  <a:pt x="22448" y="5531"/>
                </a:cubicBezTo>
                <a:cubicBezTo>
                  <a:pt x="22489" y="5531"/>
                  <a:pt x="22531" y="5531"/>
                  <a:pt x="22572" y="5531"/>
                </a:cubicBezTo>
                <a:cubicBezTo>
                  <a:pt x="22685" y="5757"/>
                  <a:pt x="22613" y="5941"/>
                  <a:pt x="22671" y="6176"/>
                </a:cubicBezTo>
                <a:cubicBezTo>
                  <a:pt x="22728" y="6407"/>
                  <a:pt x="22982" y="6196"/>
                  <a:pt x="23068" y="61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56280" y="4303800"/>
            <a:ext cx="401760" cy="455400"/>
          </a:xfrm>
          <a:custGeom>
            <a:avLst/>
            <a:gdLst/>
            <a:ahLst/>
            <a:rect l="l" t="t" r="r" b="b"/>
            <a:pathLst>
              <a:path w="1117" h="1266">
                <a:moveTo>
                  <a:pt x="19447" y="11956"/>
                </a:moveTo>
                <a:cubicBezTo>
                  <a:pt x="19447" y="12175"/>
                  <a:pt x="19401" y="12385"/>
                  <a:pt x="19372" y="12601"/>
                </a:cubicBezTo>
                <a:cubicBezTo>
                  <a:pt x="19354" y="12751"/>
                  <a:pt x="19367" y="12775"/>
                  <a:pt x="19323" y="12849"/>
                </a:cubicBezTo>
              </a:path>
              <a:path w="1117" h="1266">
                <a:moveTo>
                  <a:pt x="19943" y="12080"/>
                </a:moveTo>
                <a:cubicBezTo>
                  <a:pt x="19792" y="12104"/>
                  <a:pt x="19716" y="12437"/>
                  <a:pt x="19695" y="12601"/>
                </a:cubicBezTo>
                <a:cubicBezTo>
                  <a:pt x="19695" y="12774"/>
                  <a:pt x="19680" y="12820"/>
                  <a:pt x="19769" y="12898"/>
                </a:cubicBezTo>
                <a:cubicBezTo>
                  <a:pt x="20073" y="12833"/>
                  <a:pt x="20343" y="12639"/>
                  <a:pt x="20216" y="12254"/>
                </a:cubicBezTo>
                <a:cubicBezTo>
                  <a:pt x="20196" y="12193"/>
                  <a:pt x="19807" y="11864"/>
                  <a:pt x="19769" y="12055"/>
                </a:cubicBezTo>
                <a:cubicBezTo>
                  <a:pt x="19786" y="12072"/>
                  <a:pt x="19802" y="12088"/>
                  <a:pt x="19819" y="12105"/>
                </a:cubicBezTo>
              </a:path>
              <a:path w="1117" h="1266">
                <a:moveTo>
                  <a:pt x="20439" y="12799"/>
                </a:moveTo>
                <a:cubicBezTo>
                  <a:pt x="20439" y="12944"/>
                  <a:pt x="20442" y="13081"/>
                  <a:pt x="20414" y="132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83320" y="4295880"/>
            <a:ext cx="642960" cy="303120"/>
          </a:xfrm>
          <a:custGeom>
            <a:avLst/>
            <a:gdLst/>
            <a:ahLst/>
            <a:rect l="l" t="t" r="r" b="b"/>
            <a:pathLst>
              <a:path w="1787" h="844">
                <a:moveTo>
                  <a:pt x="20861" y="12055"/>
                </a:moveTo>
                <a:cubicBezTo>
                  <a:pt x="20861" y="12005"/>
                  <a:pt x="20861" y="12104"/>
                  <a:pt x="20861" y="12154"/>
                </a:cubicBezTo>
                <a:cubicBezTo>
                  <a:pt x="20783" y="12284"/>
                  <a:pt x="20881" y="12087"/>
                  <a:pt x="20886" y="12080"/>
                </a:cubicBezTo>
                <a:cubicBezTo>
                  <a:pt x="21006" y="11908"/>
                  <a:pt x="21254" y="11859"/>
                  <a:pt x="21258" y="12154"/>
                </a:cubicBezTo>
                <a:cubicBezTo>
                  <a:pt x="21262" y="12470"/>
                  <a:pt x="21098" y="12612"/>
                  <a:pt x="20836" y="12700"/>
                </a:cubicBezTo>
                <a:cubicBezTo>
                  <a:pt x="20811" y="12574"/>
                  <a:pt x="20844" y="12248"/>
                  <a:pt x="21084" y="12427"/>
                </a:cubicBezTo>
                <a:cubicBezTo>
                  <a:pt x="21181" y="12499"/>
                  <a:pt x="21138" y="12862"/>
                  <a:pt x="21183" y="12750"/>
                </a:cubicBezTo>
                <a:cubicBezTo>
                  <a:pt x="21191" y="12733"/>
                  <a:pt x="21200" y="12717"/>
                  <a:pt x="21208" y="12700"/>
                </a:cubicBezTo>
              </a:path>
              <a:path w="1787" h="844">
                <a:moveTo>
                  <a:pt x="21779" y="12278"/>
                </a:moveTo>
                <a:cubicBezTo>
                  <a:pt x="21798" y="12200"/>
                  <a:pt x="21840" y="12202"/>
                  <a:pt x="21803" y="12105"/>
                </a:cubicBezTo>
                <a:cubicBezTo>
                  <a:pt x="21752" y="11971"/>
                  <a:pt x="21565" y="11847"/>
                  <a:pt x="21431" y="11981"/>
                </a:cubicBezTo>
                <a:cubicBezTo>
                  <a:pt x="21292" y="12120"/>
                  <a:pt x="21350" y="12490"/>
                  <a:pt x="21605" y="12402"/>
                </a:cubicBezTo>
                <a:cubicBezTo>
                  <a:pt x="21759" y="12348"/>
                  <a:pt x="21763" y="12231"/>
                  <a:pt x="21779" y="12105"/>
                </a:cubicBezTo>
                <a:cubicBezTo>
                  <a:pt x="21804" y="12272"/>
                  <a:pt x="21782" y="12543"/>
                  <a:pt x="21729" y="12725"/>
                </a:cubicBezTo>
                <a:cubicBezTo>
                  <a:pt x="21704" y="12750"/>
                  <a:pt x="21696" y="12758"/>
                  <a:pt x="21729" y="12725"/>
                </a:cubicBezTo>
              </a:path>
              <a:path w="1787" h="844">
                <a:moveTo>
                  <a:pt x="22101" y="12055"/>
                </a:moveTo>
                <a:cubicBezTo>
                  <a:pt x="22101" y="11980"/>
                  <a:pt x="22109" y="12155"/>
                  <a:pt x="22101" y="12229"/>
                </a:cubicBezTo>
                <a:cubicBezTo>
                  <a:pt x="22089" y="12342"/>
                  <a:pt x="21997" y="12563"/>
                  <a:pt x="22051" y="12675"/>
                </a:cubicBezTo>
                <a:cubicBezTo>
                  <a:pt x="22102" y="12782"/>
                  <a:pt x="22368" y="12714"/>
                  <a:pt x="22448" y="12675"/>
                </a:cubicBezTo>
                <a:cubicBezTo>
                  <a:pt x="22563" y="12619"/>
                  <a:pt x="22599" y="12530"/>
                  <a:pt x="22547" y="12427"/>
                </a:cubicBezTo>
                <a:cubicBezTo>
                  <a:pt x="22376" y="12417"/>
                  <a:pt x="22218" y="12471"/>
                  <a:pt x="22250" y="12700"/>
                </a:cubicBezTo>
                <a:cubicBezTo>
                  <a:pt x="22266" y="12725"/>
                  <a:pt x="22283" y="12749"/>
                  <a:pt x="22299" y="127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77120" y="4214880"/>
            <a:ext cx="501840" cy="411120"/>
          </a:xfrm>
          <a:custGeom>
            <a:avLst/>
            <a:gdLst/>
            <a:ahLst/>
            <a:rect l="l" t="t" r="r" b="b"/>
            <a:pathLst>
              <a:path w="1390" h="1142">
                <a:moveTo>
                  <a:pt x="23019" y="12402"/>
                </a:moveTo>
                <a:cubicBezTo>
                  <a:pt x="23055" y="12333"/>
                  <a:pt x="23044" y="12498"/>
                  <a:pt x="23044" y="12576"/>
                </a:cubicBezTo>
                <a:cubicBezTo>
                  <a:pt x="23044" y="12683"/>
                  <a:pt x="23044" y="12708"/>
                  <a:pt x="23044" y="12774"/>
                </a:cubicBezTo>
                <a:cubicBezTo>
                  <a:pt x="23256" y="12759"/>
                  <a:pt x="23310" y="12703"/>
                  <a:pt x="23391" y="12502"/>
                </a:cubicBezTo>
                <a:cubicBezTo>
                  <a:pt x="23417" y="12438"/>
                  <a:pt x="23381" y="12460"/>
                  <a:pt x="23391" y="12526"/>
                </a:cubicBezTo>
                <a:cubicBezTo>
                  <a:pt x="23406" y="12629"/>
                  <a:pt x="23416" y="12698"/>
                  <a:pt x="23416" y="12799"/>
                </a:cubicBezTo>
                <a:cubicBezTo>
                  <a:pt x="23416" y="12645"/>
                  <a:pt x="23403" y="12523"/>
                  <a:pt x="23515" y="12402"/>
                </a:cubicBezTo>
                <a:cubicBezTo>
                  <a:pt x="23540" y="12386"/>
                  <a:pt x="23564" y="12369"/>
                  <a:pt x="23589" y="12353"/>
                </a:cubicBezTo>
                <a:cubicBezTo>
                  <a:pt x="23753" y="12435"/>
                  <a:pt x="23782" y="12534"/>
                  <a:pt x="23763" y="12725"/>
                </a:cubicBezTo>
                <a:cubicBezTo>
                  <a:pt x="23747" y="12891"/>
                  <a:pt x="23746" y="12850"/>
                  <a:pt x="23664" y="12750"/>
                </a:cubicBezTo>
              </a:path>
              <a:path w="1390" h="1142">
                <a:moveTo>
                  <a:pt x="22994" y="12080"/>
                </a:moveTo>
                <a:cubicBezTo>
                  <a:pt x="22994" y="12122"/>
                  <a:pt x="22984" y="12118"/>
                  <a:pt x="23019" y="12129"/>
                </a:cubicBezTo>
              </a:path>
              <a:path w="1390" h="1142">
                <a:moveTo>
                  <a:pt x="23812" y="11906"/>
                </a:moveTo>
                <a:cubicBezTo>
                  <a:pt x="23909" y="11868"/>
                  <a:pt x="23992" y="11827"/>
                  <a:pt x="24110" y="11807"/>
                </a:cubicBezTo>
                <a:cubicBezTo>
                  <a:pt x="24118" y="11807"/>
                  <a:pt x="24127" y="11807"/>
                  <a:pt x="24135" y="11807"/>
                </a:cubicBezTo>
                <a:cubicBezTo>
                  <a:pt x="24135" y="11923"/>
                  <a:pt x="24050" y="11990"/>
                  <a:pt x="23986" y="12080"/>
                </a:cubicBezTo>
                <a:cubicBezTo>
                  <a:pt x="23946" y="12137"/>
                  <a:pt x="23903" y="12186"/>
                  <a:pt x="23912" y="12204"/>
                </a:cubicBezTo>
                <a:cubicBezTo>
                  <a:pt x="24004" y="12225"/>
                  <a:pt x="24060" y="12187"/>
                  <a:pt x="24160" y="12179"/>
                </a:cubicBezTo>
                <a:cubicBezTo>
                  <a:pt x="24168" y="12179"/>
                  <a:pt x="24177" y="12179"/>
                  <a:pt x="24185" y="12179"/>
                </a:cubicBezTo>
              </a:path>
              <a:path w="1390" h="1142">
                <a:moveTo>
                  <a:pt x="24011" y="11832"/>
                </a:moveTo>
                <a:cubicBezTo>
                  <a:pt x="24057" y="11832"/>
                  <a:pt x="24075" y="11838"/>
                  <a:pt x="24110" y="11807"/>
                </a:cubicBezTo>
                <a:cubicBezTo>
                  <a:pt x="24173" y="11751"/>
                  <a:pt x="24221" y="11737"/>
                  <a:pt x="24309" y="11733"/>
                </a:cubicBezTo>
                <a:cubicBezTo>
                  <a:pt x="24325" y="11733"/>
                  <a:pt x="24342" y="11733"/>
                  <a:pt x="24358" y="11733"/>
                </a:cubicBezTo>
                <a:cubicBezTo>
                  <a:pt x="24403" y="11792"/>
                  <a:pt x="24400" y="11840"/>
                  <a:pt x="24333" y="11881"/>
                </a:cubicBezTo>
                <a:cubicBezTo>
                  <a:pt x="24267" y="11921"/>
                  <a:pt x="24104" y="11949"/>
                  <a:pt x="24085" y="12005"/>
                </a:cubicBezTo>
                <a:cubicBezTo>
                  <a:pt x="24148" y="12005"/>
                  <a:pt x="24241" y="11981"/>
                  <a:pt x="24284" y="12030"/>
                </a:cubicBezTo>
                <a:cubicBezTo>
                  <a:pt x="24370" y="12129"/>
                  <a:pt x="24340" y="12280"/>
                  <a:pt x="24209" y="12328"/>
                </a:cubicBezTo>
                <a:cubicBezTo>
                  <a:pt x="24085" y="12374"/>
                  <a:pt x="24020" y="12347"/>
                  <a:pt x="23912" y="12303"/>
                </a:cubicBezTo>
              </a:path>
              <a:path w="1390" h="1142">
                <a:moveTo>
                  <a:pt x="23862" y="11832"/>
                </a:moveTo>
                <a:cubicBezTo>
                  <a:pt x="23923" y="11812"/>
                  <a:pt x="24047" y="11763"/>
                  <a:pt x="24135" y="11733"/>
                </a:cubicBezTo>
                <a:cubicBezTo>
                  <a:pt x="24200" y="11711"/>
                  <a:pt x="24215" y="11703"/>
                  <a:pt x="24259" y="11708"/>
                </a:cubicBezTo>
                <a:cubicBezTo>
                  <a:pt x="24286" y="11775"/>
                  <a:pt x="24355" y="11845"/>
                  <a:pt x="24284" y="11931"/>
                </a:cubicBezTo>
                <a:cubicBezTo>
                  <a:pt x="24221" y="12007"/>
                  <a:pt x="24078" y="12040"/>
                  <a:pt x="23986" y="12055"/>
                </a:cubicBezTo>
                <a:cubicBezTo>
                  <a:pt x="23921" y="12055"/>
                  <a:pt x="24130" y="12009"/>
                  <a:pt x="24160" y="12005"/>
                </a:cubicBezTo>
                <a:cubicBezTo>
                  <a:pt x="24278" y="11988"/>
                  <a:pt x="24299" y="12114"/>
                  <a:pt x="24259" y="12204"/>
                </a:cubicBezTo>
                <a:cubicBezTo>
                  <a:pt x="24185" y="12369"/>
                  <a:pt x="24028" y="12328"/>
                  <a:pt x="23887" y="123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5080" y="5126040"/>
            <a:ext cx="285840" cy="196920"/>
          </a:xfrm>
          <a:custGeom>
            <a:avLst/>
            <a:gdLst/>
            <a:ahLst/>
            <a:rect l="l" t="t" r="r" b="b"/>
            <a:pathLst>
              <a:path w="795" h="547">
                <a:moveTo>
                  <a:pt x="12179" y="14734"/>
                </a:moveTo>
                <a:cubicBezTo>
                  <a:pt x="12179" y="14759"/>
                  <a:pt x="12179" y="14767"/>
                  <a:pt x="12179" y="14784"/>
                </a:cubicBezTo>
                <a:cubicBezTo>
                  <a:pt x="12224" y="14769"/>
                  <a:pt x="12183" y="14691"/>
                  <a:pt x="12179" y="14635"/>
                </a:cubicBezTo>
                <a:cubicBezTo>
                  <a:pt x="12176" y="14591"/>
                  <a:pt x="12150" y="14494"/>
                  <a:pt x="12154" y="14461"/>
                </a:cubicBezTo>
                <a:cubicBezTo>
                  <a:pt x="12160" y="14411"/>
                  <a:pt x="12179" y="14367"/>
                  <a:pt x="12179" y="14312"/>
                </a:cubicBezTo>
                <a:cubicBezTo>
                  <a:pt x="12179" y="14287"/>
                  <a:pt x="12179" y="14263"/>
                  <a:pt x="12179" y="14238"/>
                </a:cubicBezTo>
                <a:cubicBezTo>
                  <a:pt x="12277" y="14238"/>
                  <a:pt x="12368" y="14235"/>
                  <a:pt x="12452" y="14263"/>
                </a:cubicBezTo>
                <a:cubicBezTo>
                  <a:pt x="12584" y="14307"/>
                  <a:pt x="12806" y="14263"/>
                  <a:pt x="12948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38800" y="4983120"/>
            <a:ext cx="241200" cy="27000"/>
          </a:xfrm>
          <a:custGeom>
            <a:avLst/>
            <a:gdLst/>
            <a:ahLst/>
            <a:rect l="l" t="t" r="r" b="b"/>
            <a:pathLst>
              <a:path w="671" h="75">
                <a:moveTo>
                  <a:pt x="12328" y="13891"/>
                </a:moveTo>
                <a:cubicBezTo>
                  <a:pt x="12388" y="13905"/>
                  <a:pt x="12407" y="13896"/>
                  <a:pt x="12477" y="13891"/>
                </a:cubicBezTo>
                <a:cubicBezTo>
                  <a:pt x="12552" y="13885"/>
                  <a:pt x="12612" y="13887"/>
                  <a:pt x="12675" y="13866"/>
                </a:cubicBezTo>
                <a:cubicBezTo>
                  <a:pt x="12715" y="13853"/>
                  <a:pt x="12762" y="13853"/>
                  <a:pt x="12799" y="13841"/>
                </a:cubicBezTo>
                <a:cubicBezTo>
                  <a:pt x="12852" y="13823"/>
                  <a:pt x="12942" y="13841"/>
                  <a:pt x="12998" y="138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70280" y="499104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2998" y="13866"/>
                </a:moveTo>
                <a:cubicBezTo>
                  <a:pt x="12973" y="13866"/>
                  <a:pt x="12965" y="13866"/>
                  <a:pt x="12998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1360" y="5000760"/>
            <a:ext cx="276480" cy="63360"/>
          </a:xfrm>
          <a:custGeom>
            <a:avLst/>
            <a:gdLst/>
            <a:ahLst/>
            <a:rect l="l" t="t" r="r" b="b"/>
            <a:pathLst>
              <a:path w="770" h="174">
                <a:moveTo>
                  <a:pt x="12725" y="13891"/>
                </a:moveTo>
                <a:cubicBezTo>
                  <a:pt x="12812" y="13891"/>
                  <a:pt x="12887" y="13907"/>
                  <a:pt x="12973" y="13915"/>
                </a:cubicBezTo>
                <a:cubicBezTo>
                  <a:pt x="13080" y="13925"/>
                  <a:pt x="13176" y="13967"/>
                  <a:pt x="13271" y="13990"/>
                </a:cubicBezTo>
                <a:cubicBezTo>
                  <a:pt x="13317" y="14001"/>
                  <a:pt x="13347" y="14015"/>
                  <a:pt x="13395" y="14015"/>
                </a:cubicBezTo>
                <a:cubicBezTo>
                  <a:pt x="13426" y="14015"/>
                  <a:pt x="13440" y="14032"/>
                  <a:pt x="13469" y="14039"/>
                </a:cubicBezTo>
                <a:cubicBezTo>
                  <a:pt x="13484" y="14084"/>
                  <a:pt x="13493" y="14075"/>
                  <a:pt x="13395" y="14039"/>
                </a:cubicBezTo>
                <a:cubicBezTo>
                  <a:pt x="13266" y="13991"/>
                  <a:pt x="13105" y="14021"/>
                  <a:pt x="12998" y="13940"/>
                </a:cubicBezTo>
                <a:cubicBezTo>
                  <a:pt x="12971" y="13920"/>
                  <a:pt x="12903" y="13915"/>
                  <a:pt x="12948" y="13915"/>
                </a:cubicBezTo>
                <a:cubicBezTo>
                  <a:pt x="13068" y="13932"/>
                  <a:pt x="13204" y="13955"/>
                  <a:pt x="13320" y="13990"/>
                </a:cubicBezTo>
                <a:cubicBezTo>
                  <a:pt x="13371" y="14005"/>
                  <a:pt x="13370" y="14015"/>
                  <a:pt x="13419" y="140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5126040"/>
            <a:ext cx="63360" cy="9360"/>
          </a:xfrm>
          <a:custGeom>
            <a:avLst/>
            <a:gdLst/>
            <a:ahLst/>
            <a:rect l="l" t="t" r="r" b="b"/>
            <a:pathLst>
              <a:path w="174" h="26">
                <a:moveTo>
                  <a:pt x="12750" y="14263"/>
                </a:moveTo>
                <a:cubicBezTo>
                  <a:pt x="12821" y="14248"/>
                  <a:pt x="12848" y="14250"/>
                  <a:pt x="12923" y="142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02080" y="5010120"/>
            <a:ext cx="189000" cy="258840"/>
          </a:xfrm>
          <a:custGeom>
            <a:avLst/>
            <a:gdLst/>
            <a:ahLst/>
            <a:rect l="l" t="t" r="r" b="b"/>
            <a:pathLst>
              <a:path w="522" h="721">
                <a:moveTo>
                  <a:pt x="12303" y="14188"/>
                </a:moveTo>
                <a:cubicBezTo>
                  <a:pt x="12270" y="14166"/>
                  <a:pt x="12240" y="14171"/>
                  <a:pt x="12353" y="14089"/>
                </a:cubicBezTo>
                <a:cubicBezTo>
                  <a:pt x="12416" y="14043"/>
                  <a:pt x="12522" y="13940"/>
                  <a:pt x="12601" y="13940"/>
                </a:cubicBezTo>
                <a:cubicBezTo>
                  <a:pt x="12629" y="13940"/>
                  <a:pt x="12635" y="13938"/>
                  <a:pt x="12601" y="13915"/>
                </a:cubicBezTo>
                <a:cubicBezTo>
                  <a:pt x="12486" y="14002"/>
                  <a:pt x="12380" y="14087"/>
                  <a:pt x="12278" y="14188"/>
                </a:cubicBezTo>
                <a:cubicBezTo>
                  <a:pt x="12187" y="14212"/>
                  <a:pt x="12260" y="14182"/>
                  <a:pt x="12328" y="14139"/>
                </a:cubicBezTo>
                <a:cubicBezTo>
                  <a:pt x="12414" y="14085"/>
                  <a:pt x="12614" y="14011"/>
                  <a:pt x="12675" y="13940"/>
                </a:cubicBezTo>
                <a:cubicBezTo>
                  <a:pt x="12731" y="13874"/>
                  <a:pt x="12700" y="14005"/>
                  <a:pt x="12700" y="14064"/>
                </a:cubicBezTo>
                <a:cubicBezTo>
                  <a:pt x="12700" y="14138"/>
                  <a:pt x="12700" y="13940"/>
                  <a:pt x="12700" y="13940"/>
                </a:cubicBezTo>
                <a:cubicBezTo>
                  <a:pt x="12686" y="14078"/>
                  <a:pt x="12656" y="14206"/>
                  <a:pt x="12626" y="14337"/>
                </a:cubicBezTo>
                <a:cubicBezTo>
                  <a:pt x="12626" y="14370"/>
                  <a:pt x="12626" y="14370"/>
                  <a:pt x="12626" y="14312"/>
                </a:cubicBezTo>
                <a:cubicBezTo>
                  <a:pt x="12660" y="14242"/>
                  <a:pt x="12670" y="14149"/>
                  <a:pt x="12675" y="14064"/>
                </a:cubicBezTo>
                <a:cubicBezTo>
                  <a:pt x="12675" y="14056"/>
                  <a:pt x="12675" y="14047"/>
                  <a:pt x="12675" y="14039"/>
                </a:cubicBezTo>
                <a:cubicBezTo>
                  <a:pt x="12697" y="14126"/>
                  <a:pt x="12717" y="14237"/>
                  <a:pt x="12725" y="14337"/>
                </a:cubicBezTo>
                <a:cubicBezTo>
                  <a:pt x="12730" y="14403"/>
                  <a:pt x="12725" y="14552"/>
                  <a:pt x="12725" y="14486"/>
                </a:cubicBezTo>
                <a:cubicBezTo>
                  <a:pt x="12725" y="14409"/>
                  <a:pt x="12725" y="14456"/>
                  <a:pt x="12725" y="14511"/>
                </a:cubicBezTo>
                <a:cubicBezTo>
                  <a:pt x="12725" y="14579"/>
                  <a:pt x="12722" y="14598"/>
                  <a:pt x="12750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5000" y="5027760"/>
            <a:ext cx="233280" cy="179280"/>
          </a:xfrm>
          <a:custGeom>
            <a:avLst/>
            <a:gdLst/>
            <a:ahLst/>
            <a:rect l="l" t="t" r="r" b="b"/>
            <a:pathLst>
              <a:path w="646" h="497">
                <a:moveTo>
                  <a:pt x="12650" y="14089"/>
                </a:moveTo>
                <a:cubicBezTo>
                  <a:pt x="12577" y="14064"/>
                  <a:pt x="12722" y="14021"/>
                  <a:pt x="12799" y="14015"/>
                </a:cubicBezTo>
                <a:cubicBezTo>
                  <a:pt x="12800" y="14015"/>
                  <a:pt x="13217" y="14023"/>
                  <a:pt x="13047" y="14039"/>
                </a:cubicBezTo>
                <a:cubicBezTo>
                  <a:pt x="13006" y="14039"/>
                  <a:pt x="12964" y="14039"/>
                  <a:pt x="12923" y="14039"/>
                </a:cubicBezTo>
                <a:cubicBezTo>
                  <a:pt x="12727" y="14119"/>
                  <a:pt x="13104" y="13975"/>
                  <a:pt x="13146" y="13965"/>
                </a:cubicBezTo>
                <a:cubicBezTo>
                  <a:pt x="13205" y="13951"/>
                  <a:pt x="13217" y="14006"/>
                  <a:pt x="13221" y="14064"/>
                </a:cubicBezTo>
                <a:cubicBezTo>
                  <a:pt x="13221" y="14213"/>
                  <a:pt x="13221" y="14263"/>
                  <a:pt x="13221" y="14362"/>
                </a:cubicBezTo>
                <a:cubicBezTo>
                  <a:pt x="13282" y="14464"/>
                  <a:pt x="13275" y="14272"/>
                  <a:pt x="13271" y="14213"/>
                </a:cubicBezTo>
                <a:cubicBezTo>
                  <a:pt x="13250" y="14131"/>
                  <a:pt x="13242" y="14115"/>
                  <a:pt x="13246" y="14064"/>
                </a:cubicBezTo>
                <a:cubicBezTo>
                  <a:pt x="13255" y="14198"/>
                  <a:pt x="13271" y="14326"/>
                  <a:pt x="13271" y="14461"/>
                </a:cubicBezTo>
                <a:cubicBezTo>
                  <a:pt x="13271" y="14535"/>
                  <a:pt x="13271" y="14214"/>
                  <a:pt x="13271" y="14288"/>
                </a:cubicBezTo>
                <a:cubicBezTo>
                  <a:pt x="13271" y="14296"/>
                  <a:pt x="13271" y="14304"/>
                  <a:pt x="13271" y="1431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39e8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Find the volume using V=lw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85800" y="2743200"/>
            <a:ext cx="4343400" cy="2641320"/>
            <a:chOff x="685800" y="2743200"/>
            <a:chExt cx="4343400" cy="2641320"/>
          </a:xfrm>
        </p:grpSpPr>
        <p:sp>
          <p:nvSpPr>
            <p:cNvPr id="116" name=""/>
            <p:cNvSpPr/>
            <p:nvPr/>
          </p:nvSpPr>
          <p:spPr>
            <a:xfrm>
              <a:off x="685800" y="3657240"/>
              <a:ext cx="22860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5016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2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640" y="4267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6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7440" y="2743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86200" y="48769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52578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53341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352680" y="5257800"/>
                <a:ext cx="5105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f15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Find the volume using V=B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895480" y="2862720"/>
            <a:ext cx="3048120" cy="2534760"/>
            <a:chOff x="2895480" y="2862720"/>
            <a:chExt cx="3048120" cy="2534760"/>
          </a:xfrm>
        </p:grpSpPr>
        <p:sp>
          <p:nvSpPr>
            <p:cNvPr id="127" name=""/>
            <p:cNvSpPr/>
            <p:nvPr/>
          </p:nvSpPr>
          <p:spPr>
            <a:xfrm rot="1017000">
              <a:off x="3276360" y="2971800"/>
              <a:ext cx="1066680" cy="2133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5029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4800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31244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009960" y="5340240"/>
            <a:ext cx="482400" cy="34920"/>
          </a:xfrm>
          <a:custGeom>
            <a:avLst/>
            <a:gdLst/>
            <a:ahLst/>
            <a:rect l="l" t="t" r="r" b="b"/>
            <a:pathLst>
              <a:path w="1341" h="100">
                <a:moveTo>
                  <a:pt x="8359" y="14908"/>
                </a:moveTo>
                <a:cubicBezTo>
                  <a:pt x="8402" y="14933"/>
                  <a:pt x="8431" y="14932"/>
                  <a:pt x="8483" y="14932"/>
                </a:cubicBezTo>
                <a:cubicBezTo>
                  <a:pt x="8589" y="14932"/>
                  <a:pt x="8681" y="14924"/>
                  <a:pt x="8781" y="14908"/>
                </a:cubicBezTo>
                <a:cubicBezTo>
                  <a:pt x="8837" y="14899"/>
                  <a:pt x="8903" y="14911"/>
                  <a:pt x="8954" y="14883"/>
                </a:cubicBezTo>
                <a:cubicBezTo>
                  <a:pt x="9004" y="14856"/>
                  <a:pt x="9015" y="14858"/>
                  <a:pt x="9079" y="14858"/>
                </a:cubicBezTo>
                <a:cubicBezTo>
                  <a:pt x="9142" y="14858"/>
                  <a:pt x="9182" y="14833"/>
                  <a:pt x="9252" y="14833"/>
                </a:cubicBezTo>
                <a:cubicBezTo>
                  <a:pt x="9315" y="14833"/>
                  <a:pt x="9352" y="14848"/>
                  <a:pt x="9401" y="14858"/>
                </a:cubicBezTo>
                <a:cubicBezTo>
                  <a:pt x="9466" y="14872"/>
                  <a:pt x="9531" y="14883"/>
                  <a:pt x="9599" y="14883"/>
                </a:cubicBezTo>
                <a:cubicBezTo>
                  <a:pt x="9646" y="14883"/>
                  <a:pt x="9686" y="14868"/>
                  <a:pt x="9699" y="149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5153040"/>
            <a:ext cx="455400" cy="34920"/>
          </a:xfrm>
          <a:custGeom>
            <a:avLst/>
            <a:gdLst/>
            <a:ahLst/>
            <a:rect l="l" t="t" r="r" b="b"/>
            <a:pathLst>
              <a:path w="1266" h="101">
                <a:moveTo>
                  <a:pt x="12328" y="14337"/>
                </a:moveTo>
                <a:cubicBezTo>
                  <a:pt x="12303" y="14337"/>
                  <a:pt x="12295" y="14337"/>
                  <a:pt x="12278" y="14337"/>
                </a:cubicBezTo>
                <a:cubicBezTo>
                  <a:pt x="12296" y="14282"/>
                  <a:pt x="12369" y="14325"/>
                  <a:pt x="12427" y="14337"/>
                </a:cubicBezTo>
                <a:cubicBezTo>
                  <a:pt x="12556" y="14364"/>
                  <a:pt x="12667" y="14387"/>
                  <a:pt x="12799" y="14387"/>
                </a:cubicBezTo>
                <a:cubicBezTo>
                  <a:pt x="12882" y="14387"/>
                  <a:pt x="12996" y="14425"/>
                  <a:pt x="13072" y="14412"/>
                </a:cubicBezTo>
                <a:cubicBezTo>
                  <a:pt x="13171" y="14395"/>
                  <a:pt x="13271" y="14376"/>
                  <a:pt x="13370" y="14362"/>
                </a:cubicBezTo>
                <a:cubicBezTo>
                  <a:pt x="13421" y="14355"/>
                  <a:pt x="13530" y="14346"/>
                  <a:pt x="13543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3680" y="3473280"/>
            <a:ext cx="563400" cy="27000"/>
          </a:xfrm>
          <a:custGeom>
            <a:avLst/>
            <a:gdLst/>
            <a:ahLst/>
            <a:rect l="l" t="t" r="r" b="b"/>
            <a:pathLst>
              <a:path w="1563" h="75">
                <a:moveTo>
                  <a:pt x="14312" y="9723"/>
                </a:moveTo>
                <a:cubicBezTo>
                  <a:pt x="14369" y="9723"/>
                  <a:pt x="14379" y="9723"/>
                  <a:pt x="14436" y="9723"/>
                </a:cubicBezTo>
                <a:cubicBezTo>
                  <a:pt x="14605" y="9723"/>
                  <a:pt x="14767" y="9717"/>
                  <a:pt x="14932" y="9699"/>
                </a:cubicBezTo>
                <a:cubicBezTo>
                  <a:pt x="14999" y="9692"/>
                  <a:pt x="15068" y="9678"/>
                  <a:pt x="15131" y="9674"/>
                </a:cubicBezTo>
                <a:cubicBezTo>
                  <a:pt x="15230" y="9667"/>
                  <a:pt x="15310" y="9671"/>
                  <a:pt x="15404" y="9649"/>
                </a:cubicBezTo>
                <a:cubicBezTo>
                  <a:pt x="15535" y="9619"/>
                  <a:pt x="15715" y="9649"/>
                  <a:pt x="15850" y="964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38960" y="1098720"/>
            <a:ext cx="955440" cy="36360"/>
          </a:xfrm>
          <a:custGeom>
            <a:avLst/>
            <a:gdLst/>
            <a:ahLst/>
            <a:rect l="l" t="t" r="r" b="b"/>
            <a:pathLst>
              <a:path w="2655" h="100">
                <a:moveTo>
                  <a:pt x="17884" y="3125"/>
                </a:moveTo>
                <a:cubicBezTo>
                  <a:pt x="17984" y="3148"/>
                  <a:pt x="18074" y="3150"/>
                  <a:pt x="18182" y="3150"/>
                </a:cubicBezTo>
                <a:cubicBezTo>
                  <a:pt x="18433" y="3150"/>
                  <a:pt x="18678" y="3143"/>
                  <a:pt x="18926" y="3125"/>
                </a:cubicBezTo>
                <a:cubicBezTo>
                  <a:pt x="19116" y="3111"/>
                  <a:pt x="19309" y="3118"/>
                  <a:pt x="19496" y="3101"/>
                </a:cubicBezTo>
                <a:cubicBezTo>
                  <a:pt x="19702" y="3082"/>
                  <a:pt x="19917" y="3098"/>
                  <a:pt x="20117" y="3076"/>
                </a:cubicBezTo>
                <a:cubicBezTo>
                  <a:pt x="20220" y="3065"/>
                  <a:pt x="20317" y="3067"/>
                  <a:pt x="20414" y="3051"/>
                </a:cubicBezTo>
                <a:cubicBezTo>
                  <a:pt x="20453" y="3044"/>
                  <a:pt x="20499" y="3051"/>
                  <a:pt x="20538" y="30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4080" y="3687840"/>
            <a:ext cx="179640" cy="44280"/>
          </a:xfrm>
          <a:custGeom>
            <a:avLst/>
            <a:gdLst/>
            <a:ahLst/>
            <a:rect l="l" t="t" r="r" b="b"/>
            <a:pathLst>
              <a:path w="497" h="125">
                <a:moveTo>
                  <a:pt x="18430" y="10368"/>
                </a:moveTo>
                <a:cubicBezTo>
                  <a:pt x="18608" y="10289"/>
                  <a:pt x="18734" y="10247"/>
                  <a:pt x="18926" y="102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92880" y="3473280"/>
            <a:ext cx="403200" cy="438480"/>
          </a:xfrm>
          <a:custGeom>
            <a:avLst/>
            <a:gdLst/>
            <a:ahLst/>
            <a:rect l="l" t="t" r="r" b="b"/>
            <a:pathLst>
              <a:path w="1117" h="1216">
                <a:moveTo>
                  <a:pt x="17760" y="9847"/>
                </a:moveTo>
                <a:cubicBezTo>
                  <a:pt x="17868" y="10063"/>
                  <a:pt x="17973" y="10307"/>
                  <a:pt x="18058" y="10542"/>
                </a:cubicBezTo>
                <a:cubicBezTo>
                  <a:pt x="18099" y="10654"/>
                  <a:pt x="18118" y="10769"/>
                  <a:pt x="18182" y="10864"/>
                </a:cubicBezTo>
                <a:cubicBezTo>
                  <a:pt x="18182" y="10631"/>
                  <a:pt x="18182" y="10372"/>
                  <a:pt x="18231" y="10145"/>
                </a:cubicBezTo>
                <a:cubicBezTo>
                  <a:pt x="18267" y="9978"/>
                  <a:pt x="18339" y="9806"/>
                  <a:pt x="18405" y="9649"/>
                </a:cubicBezTo>
              </a:path>
              <a:path w="1117" h="1216">
                <a:moveTo>
                  <a:pt x="18628" y="10418"/>
                </a:moveTo>
                <a:cubicBezTo>
                  <a:pt x="18744" y="10418"/>
                  <a:pt x="18793" y="10418"/>
                  <a:pt x="18876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83280" y="3375000"/>
            <a:ext cx="1544760" cy="689040"/>
          </a:xfrm>
          <a:custGeom>
            <a:avLst/>
            <a:gdLst/>
            <a:ahLst/>
            <a:rect l="l" t="t" r="r" b="b"/>
            <a:pathLst>
              <a:path w="4292" h="1911">
                <a:moveTo>
                  <a:pt x="19893" y="10294"/>
                </a:moveTo>
                <a:cubicBezTo>
                  <a:pt x="19964" y="10050"/>
                  <a:pt x="19909" y="9979"/>
                  <a:pt x="19769" y="9773"/>
                </a:cubicBezTo>
                <a:cubicBezTo>
                  <a:pt x="19443" y="9835"/>
                  <a:pt x="19426" y="10047"/>
                  <a:pt x="19447" y="10368"/>
                </a:cubicBezTo>
                <a:cubicBezTo>
                  <a:pt x="19714" y="10368"/>
                  <a:pt x="19824" y="10300"/>
                  <a:pt x="19893" y="10021"/>
                </a:cubicBezTo>
                <a:cubicBezTo>
                  <a:pt x="19893" y="9971"/>
                  <a:pt x="19893" y="9954"/>
                  <a:pt x="19893" y="10021"/>
                </a:cubicBezTo>
                <a:cubicBezTo>
                  <a:pt x="19893" y="10329"/>
                  <a:pt x="19884" y="10633"/>
                  <a:pt x="19869" y="10939"/>
                </a:cubicBezTo>
                <a:cubicBezTo>
                  <a:pt x="19869" y="11013"/>
                  <a:pt x="19869" y="11071"/>
                  <a:pt x="19869" y="11013"/>
                </a:cubicBezTo>
              </a:path>
              <a:path w="4292" h="1911">
                <a:moveTo>
                  <a:pt x="20092" y="10864"/>
                </a:moveTo>
                <a:cubicBezTo>
                  <a:pt x="20116" y="11011"/>
                  <a:pt x="20141" y="11134"/>
                  <a:pt x="20141" y="11286"/>
                </a:cubicBezTo>
              </a:path>
              <a:path w="4292" h="1911">
                <a:moveTo>
                  <a:pt x="20985" y="10021"/>
                </a:moveTo>
                <a:cubicBezTo>
                  <a:pt x="20857" y="10043"/>
                  <a:pt x="20747" y="10067"/>
                  <a:pt x="20613" y="10071"/>
                </a:cubicBezTo>
                <a:cubicBezTo>
                  <a:pt x="20524" y="10074"/>
                  <a:pt x="20520" y="10171"/>
                  <a:pt x="20513" y="10269"/>
                </a:cubicBezTo>
                <a:cubicBezTo>
                  <a:pt x="20513" y="10418"/>
                  <a:pt x="20513" y="10434"/>
                  <a:pt x="20513" y="10517"/>
                </a:cubicBezTo>
                <a:cubicBezTo>
                  <a:pt x="20623" y="10463"/>
                  <a:pt x="20695" y="10334"/>
                  <a:pt x="20861" y="10344"/>
                </a:cubicBezTo>
                <a:cubicBezTo>
                  <a:pt x="21207" y="10365"/>
                  <a:pt x="20999" y="10720"/>
                  <a:pt x="20836" y="10815"/>
                </a:cubicBezTo>
                <a:cubicBezTo>
                  <a:pt x="20673" y="10910"/>
                  <a:pt x="20557" y="10871"/>
                  <a:pt x="20439" y="10790"/>
                </a:cubicBezTo>
              </a:path>
              <a:path w="4292" h="1911">
                <a:moveTo>
                  <a:pt x="21456" y="9996"/>
                </a:moveTo>
                <a:cubicBezTo>
                  <a:pt x="21325" y="10049"/>
                  <a:pt x="21205" y="10365"/>
                  <a:pt x="21183" y="10492"/>
                </a:cubicBezTo>
                <a:cubicBezTo>
                  <a:pt x="21191" y="10533"/>
                  <a:pt x="21200" y="10575"/>
                  <a:pt x="21208" y="10616"/>
                </a:cubicBezTo>
                <a:cubicBezTo>
                  <a:pt x="21463" y="10670"/>
                  <a:pt x="21713" y="10545"/>
                  <a:pt x="21704" y="10220"/>
                </a:cubicBezTo>
                <a:cubicBezTo>
                  <a:pt x="21697" y="9979"/>
                  <a:pt x="21453" y="9948"/>
                  <a:pt x="21282" y="9971"/>
                </a:cubicBezTo>
              </a:path>
              <a:path w="4292" h="1911">
                <a:moveTo>
                  <a:pt x="21878" y="9847"/>
                </a:moveTo>
                <a:cubicBezTo>
                  <a:pt x="21782" y="9989"/>
                  <a:pt x="21541" y="10420"/>
                  <a:pt x="21903" y="10468"/>
                </a:cubicBezTo>
                <a:cubicBezTo>
                  <a:pt x="22212" y="10509"/>
                  <a:pt x="22275" y="10171"/>
                  <a:pt x="22151" y="9971"/>
                </a:cubicBezTo>
                <a:cubicBezTo>
                  <a:pt x="22065" y="9833"/>
                  <a:pt x="21994" y="9807"/>
                  <a:pt x="21903" y="9872"/>
                </a:cubicBezTo>
              </a:path>
              <a:path w="4292" h="1911">
                <a:moveTo>
                  <a:pt x="22473" y="10145"/>
                </a:moveTo>
                <a:cubicBezTo>
                  <a:pt x="22502" y="10273"/>
                  <a:pt x="22517" y="10387"/>
                  <a:pt x="22523" y="10517"/>
                </a:cubicBezTo>
                <a:cubicBezTo>
                  <a:pt x="22513" y="10411"/>
                  <a:pt x="22453" y="10129"/>
                  <a:pt x="22622" y="10096"/>
                </a:cubicBezTo>
                <a:cubicBezTo>
                  <a:pt x="22782" y="10065"/>
                  <a:pt x="22779" y="10384"/>
                  <a:pt x="22796" y="10468"/>
                </a:cubicBezTo>
                <a:cubicBezTo>
                  <a:pt x="22692" y="10535"/>
                  <a:pt x="22788" y="10280"/>
                  <a:pt x="22845" y="10170"/>
                </a:cubicBezTo>
                <a:cubicBezTo>
                  <a:pt x="23000" y="9874"/>
                  <a:pt x="23080" y="10273"/>
                  <a:pt x="23093" y="10393"/>
                </a:cubicBezTo>
                <a:cubicBezTo>
                  <a:pt x="23100" y="10459"/>
                  <a:pt x="23093" y="10558"/>
                  <a:pt x="23093" y="10492"/>
                </a:cubicBezTo>
              </a:path>
              <a:path w="4292" h="1911">
                <a:moveTo>
                  <a:pt x="23217" y="9426"/>
                </a:moveTo>
                <a:cubicBezTo>
                  <a:pt x="23273" y="9419"/>
                  <a:pt x="23635" y="9301"/>
                  <a:pt x="23589" y="9475"/>
                </a:cubicBezTo>
                <a:cubicBezTo>
                  <a:pt x="23515" y="9575"/>
                  <a:pt x="23491" y="9608"/>
                  <a:pt x="23416" y="9649"/>
                </a:cubicBezTo>
                <a:cubicBezTo>
                  <a:pt x="23408" y="9657"/>
                  <a:pt x="23399" y="9666"/>
                  <a:pt x="23391" y="9674"/>
                </a:cubicBezTo>
                <a:cubicBezTo>
                  <a:pt x="23530" y="9627"/>
                  <a:pt x="23570" y="9609"/>
                  <a:pt x="23664" y="9649"/>
                </a:cubicBezTo>
                <a:cubicBezTo>
                  <a:pt x="23663" y="9870"/>
                  <a:pt x="23591" y="9924"/>
                  <a:pt x="23366" y="9947"/>
                </a:cubicBezTo>
                <a:cubicBezTo>
                  <a:pt x="23349" y="9947"/>
                  <a:pt x="23333" y="9947"/>
                  <a:pt x="23316" y="994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77000" y="4384800"/>
            <a:ext cx="90360" cy="169560"/>
          </a:xfrm>
          <a:custGeom>
            <a:avLst/>
            <a:gdLst/>
            <a:ahLst/>
            <a:rect l="l" t="t" r="r" b="b"/>
            <a:pathLst>
              <a:path w="249" h="472">
                <a:moveTo>
                  <a:pt x="18901" y="12179"/>
                </a:moveTo>
                <a:lnTo>
                  <a:pt x="18901" y="12179"/>
                </a:lnTo>
              </a:path>
              <a:path w="249" h="472">
                <a:moveTo>
                  <a:pt x="18827" y="12650"/>
                </a:moveTo>
                <a:cubicBezTo>
                  <a:pt x="18918" y="12645"/>
                  <a:pt x="18987" y="12638"/>
                  <a:pt x="19075" y="1262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69080" y="4446720"/>
            <a:ext cx="125280" cy="19080"/>
          </a:xfrm>
          <a:custGeom>
            <a:avLst/>
            <a:gdLst/>
            <a:ahLst/>
            <a:rect l="l" t="t" r="r" b="b"/>
            <a:pathLst>
              <a:path w="348" h="50">
                <a:moveTo>
                  <a:pt x="18802" y="12353"/>
                </a:moveTo>
                <a:cubicBezTo>
                  <a:pt x="18902" y="12419"/>
                  <a:pt x="19005" y="12402"/>
                  <a:pt x="19124" y="12402"/>
                </a:cubicBezTo>
                <a:cubicBezTo>
                  <a:pt x="19132" y="12402"/>
                  <a:pt x="19141" y="12402"/>
                  <a:pt x="19149" y="124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1920" y="4303800"/>
            <a:ext cx="1500120" cy="411120"/>
          </a:xfrm>
          <a:custGeom>
            <a:avLst/>
            <a:gdLst/>
            <a:ahLst/>
            <a:rect l="l" t="t" r="r" b="b"/>
            <a:pathLst>
              <a:path w="4168" h="1142">
                <a:moveTo>
                  <a:pt x="19769" y="12105"/>
                </a:moveTo>
                <a:cubicBezTo>
                  <a:pt x="19779" y="12066"/>
                  <a:pt x="19812" y="12045"/>
                  <a:pt x="19819" y="12030"/>
                </a:cubicBezTo>
                <a:cubicBezTo>
                  <a:pt x="19819" y="12022"/>
                  <a:pt x="19819" y="12013"/>
                  <a:pt x="19819" y="12005"/>
                </a:cubicBezTo>
                <a:cubicBezTo>
                  <a:pt x="19819" y="12149"/>
                  <a:pt x="19785" y="12314"/>
                  <a:pt x="19745" y="12452"/>
                </a:cubicBezTo>
                <a:cubicBezTo>
                  <a:pt x="19703" y="12598"/>
                  <a:pt x="19605" y="12755"/>
                  <a:pt x="19720" y="12898"/>
                </a:cubicBezTo>
                <a:cubicBezTo>
                  <a:pt x="19809" y="13008"/>
                  <a:pt x="20096" y="12948"/>
                  <a:pt x="20191" y="12874"/>
                </a:cubicBezTo>
                <a:cubicBezTo>
                  <a:pt x="20286" y="12800"/>
                  <a:pt x="20370" y="12631"/>
                  <a:pt x="20265" y="12526"/>
                </a:cubicBezTo>
                <a:cubicBezTo>
                  <a:pt x="20145" y="12406"/>
                  <a:pt x="19974" y="12596"/>
                  <a:pt x="19943" y="12700"/>
                </a:cubicBezTo>
                <a:cubicBezTo>
                  <a:pt x="19913" y="12799"/>
                  <a:pt x="19957" y="12874"/>
                  <a:pt x="20017" y="12923"/>
                </a:cubicBezTo>
              </a:path>
              <a:path w="4168" h="1142">
                <a:moveTo>
                  <a:pt x="20513" y="12725"/>
                </a:moveTo>
                <a:cubicBezTo>
                  <a:pt x="20513" y="12826"/>
                  <a:pt x="20492" y="12921"/>
                  <a:pt x="20489" y="13022"/>
                </a:cubicBezTo>
                <a:cubicBezTo>
                  <a:pt x="20489" y="13047"/>
                  <a:pt x="20489" y="13072"/>
                  <a:pt x="20489" y="13097"/>
                </a:cubicBezTo>
              </a:path>
              <a:path w="4168" h="1142">
                <a:moveTo>
                  <a:pt x="20538" y="12129"/>
                </a:moveTo>
                <a:cubicBezTo>
                  <a:pt x="20555" y="12194"/>
                  <a:pt x="20577" y="12262"/>
                  <a:pt x="20588" y="12328"/>
                </a:cubicBezTo>
                <a:cubicBezTo>
                  <a:pt x="20588" y="12251"/>
                  <a:pt x="20547" y="12069"/>
                  <a:pt x="20662" y="12080"/>
                </a:cubicBezTo>
                <a:cubicBezTo>
                  <a:pt x="20770" y="12090"/>
                  <a:pt x="20852" y="12090"/>
                  <a:pt x="20960" y="12080"/>
                </a:cubicBezTo>
                <a:cubicBezTo>
                  <a:pt x="20968" y="12080"/>
                  <a:pt x="20977" y="12080"/>
                  <a:pt x="20985" y="12080"/>
                </a:cubicBezTo>
                <a:cubicBezTo>
                  <a:pt x="20985" y="12289"/>
                  <a:pt x="20929" y="12449"/>
                  <a:pt x="20886" y="12650"/>
                </a:cubicBezTo>
                <a:cubicBezTo>
                  <a:pt x="20867" y="12738"/>
                  <a:pt x="20861" y="12793"/>
                  <a:pt x="20861" y="12874"/>
                </a:cubicBezTo>
              </a:path>
              <a:path w="4168" h="1142">
                <a:moveTo>
                  <a:pt x="21431" y="12229"/>
                </a:moveTo>
                <a:cubicBezTo>
                  <a:pt x="21489" y="12152"/>
                  <a:pt x="21462" y="12186"/>
                  <a:pt x="21605" y="12154"/>
                </a:cubicBezTo>
                <a:cubicBezTo>
                  <a:pt x="21638" y="12146"/>
                  <a:pt x="21671" y="12137"/>
                  <a:pt x="21704" y="12129"/>
                </a:cubicBezTo>
                <a:cubicBezTo>
                  <a:pt x="21704" y="12115"/>
                  <a:pt x="21524" y="12133"/>
                  <a:pt x="21431" y="12154"/>
                </a:cubicBezTo>
                <a:cubicBezTo>
                  <a:pt x="21344" y="12174"/>
                  <a:pt x="21344" y="12208"/>
                  <a:pt x="21332" y="12303"/>
                </a:cubicBezTo>
                <a:cubicBezTo>
                  <a:pt x="21332" y="12345"/>
                  <a:pt x="21332" y="12353"/>
                  <a:pt x="21332" y="12378"/>
                </a:cubicBezTo>
                <a:cubicBezTo>
                  <a:pt x="21427" y="12354"/>
                  <a:pt x="21542" y="12292"/>
                  <a:pt x="21654" y="12328"/>
                </a:cubicBezTo>
                <a:cubicBezTo>
                  <a:pt x="21954" y="12425"/>
                  <a:pt x="21682" y="12715"/>
                  <a:pt x="21506" y="12750"/>
                </a:cubicBezTo>
                <a:cubicBezTo>
                  <a:pt x="21245" y="12802"/>
                  <a:pt x="21219" y="12775"/>
                  <a:pt x="21208" y="12601"/>
                </a:cubicBezTo>
              </a:path>
              <a:path w="4168" h="1142">
                <a:moveTo>
                  <a:pt x="22076" y="12179"/>
                </a:moveTo>
                <a:cubicBezTo>
                  <a:pt x="21914" y="12342"/>
                  <a:pt x="21879" y="12501"/>
                  <a:pt x="21853" y="12725"/>
                </a:cubicBezTo>
                <a:cubicBezTo>
                  <a:pt x="22036" y="12782"/>
                  <a:pt x="22298" y="12828"/>
                  <a:pt x="22374" y="12576"/>
                </a:cubicBezTo>
                <a:cubicBezTo>
                  <a:pt x="22430" y="12389"/>
                  <a:pt x="22308" y="12147"/>
                  <a:pt x="22126" y="12105"/>
                </a:cubicBezTo>
                <a:cubicBezTo>
                  <a:pt x="22101" y="12105"/>
                  <a:pt x="22076" y="12105"/>
                  <a:pt x="22051" y="12105"/>
                </a:cubicBezTo>
              </a:path>
              <a:path w="4168" h="1142">
                <a:moveTo>
                  <a:pt x="22771" y="12477"/>
                </a:moveTo>
                <a:cubicBezTo>
                  <a:pt x="22771" y="12398"/>
                  <a:pt x="22747" y="12769"/>
                  <a:pt x="22746" y="12799"/>
                </a:cubicBezTo>
                <a:cubicBezTo>
                  <a:pt x="22746" y="12816"/>
                  <a:pt x="22746" y="12832"/>
                  <a:pt x="22746" y="12849"/>
                </a:cubicBezTo>
                <a:cubicBezTo>
                  <a:pt x="22746" y="12731"/>
                  <a:pt x="22718" y="12515"/>
                  <a:pt x="22820" y="12427"/>
                </a:cubicBezTo>
                <a:cubicBezTo>
                  <a:pt x="22942" y="12322"/>
                  <a:pt x="23054" y="12694"/>
                  <a:pt x="23068" y="12750"/>
                </a:cubicBezTo>
                <a:cubicBezTo>
                  <a:pt x="23101" y="12879"/>
                  <a:pt x="23052" y="12525"/>
                  <a:pt x="23143" y="12427"/>
                </a:cubicBezTo>
                <a:cubicBezTo>
                  <a:pt x="23168" y="12411"/>
                  <a:pt x="23192" y="12394"/>
                  <a:pt x="23217" y="12378"/>
                </a:cubicBezTo>
                <a:cubicBezTo>
                  <a:pt x="23394" y="12471"/>
                  <a:pt x="23444" y="12604"/>
                  <a:pt x="23416" y="12824"/>
                </a:cubicBezTo>
                <a:cubicBezTo>
                  <a:pt x="23408" y="12841"/>
                  <a:pt x="23399" y="12857"/>
                  <a:pt x="23391" y="12874"/>
                </a:cubicBezTo>
              </a:path>
              <a:path w="4168" h="1142">
                <a:moveTo>
                  <a:pt x="23440" y="11981"/>
                </a:moveTo>
                <a:cubicBezTo>
                  <a:pt x="23532" y="11963"/>
                  <a:pt x="23640" y="11933"/>
                  <a:pt x="23738" y="11956"/>
                </a:cubicBezTo>
                <a:cubicBezTo>
                  <a:pt x="23746" y="11964"/>
                  <a:pt x="23755" y="11973"/>
                  <a:pt x="23763" y="11981"/>
                </a:cubicBezTo>
                <a:cubicBezTo>
                  <a:pt x="23706" y="12095"/>
                  <a:pt x="23676" y="12112"/>
                  <a:pt x="23564" y="12179"/>
                </a:cubicBezTo>
                <a:cubicBezTo>
                  <a:pt x="23670" y="12166"/>
                  <a:pt x="23711" y="12167"/>
                  <a:pt x="23812" y="12179"/>
                </a:cubicBezTo>
                <a:cubicBezTo>
                  <a:pt x="23826" y="12335"/>
                  <a:pt x="23771" y="12354"/>
                  <a:pt x="23614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bf15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Find the volume using V=B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343400" y="2971800"/>
                <a:ext cx="2819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914400" y="2878920"/>
            <a:ext cx="2590560" cy="2481480"/>
            <a:chOff x="914400" y="2878920"/>
            <a:chExt cx="2590560" cy="2481480"/>
          </a:xfrm>
        </p:grpSpPr>
        <p:sp>
          <p:nvSpPr>
            <p:cNvPr id="145" name=""/>
            <p:cNvSpPr/>
            <p:nvPr/>
          </p:nvSpPr>
          <p:spPr>
            <a:xfrm rot="1017000">
              <a:off x="1238400" y="2971440"/>
              <a:ext cx="906480" cy="181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4717800"/>
              <a:ext cx="71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1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81520" y="452376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1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9160" y="3099600"/>
              <a:ext cx="7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2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267080" y="25909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962520" y="4343400"/>
                <a:ext cx="4647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nd the missing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1318320"/>
            <a:ext cx="4255920" cy="2859840"/>
            <a:chOff x="2286000" y="1318320"/>
            <a:chExt cx="4255920" cy="2859840"/>
          </a:xfrm>
        </p:grpSpPr>
        <p:sp>
          <p:nvSpPr>
            <p:cNvPr id="153" name=""/>
            <p:cNvSpPr/>
            <p:nvPr/>
          </p:nvSpPr>
          <p:spPr>
            <a:xfrm rot="20584200">
              <a:off x="3048120" y="1752120"/>
              <a:ext cx="327636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4280" y="3733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27432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920" y="3809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648320"/>
            <a:ext cx="304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76720" y="4724280"/>
                <a:ext cx="33526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466040" y="2116080"/>
            <a:ext cx="357120" cy="1857600"/>
          </a:xfrm>
          <a:custGeom>
            <a:avLst/>
            <a:gdLst/>
            <a:ahLst/>
            <a:rect l="l" t="t" r="r" b="b"/>
            <a:pathLst>
              <a:path w="993" h="5160">
                <a:moveTo>
                  <a:pt x="20737" y="6003"/>
                </a:moveTo>
                <a:cubicBezTo>
                  <a:pt x="20911" y="5978"/>
                  <a:pt x="20970" y="5969"/>
                  <a:pt x="21059" y="5879"/>
                </a:cubicBezTo>
              </a:path>
              <a:path w="993" h="5160">
                <a:moveTo>
                  <a:pt x="21059" y="5879"/>
                </a:moveTo>
                <a:lnTo>
                  <a:pt x="21059" y="5879"/>
                </a:lnTo>
              </a:path>
              <a:path w="993" h="5160">
                <a:moveTo>
                  <a:pt x="21134" y="8434"/>
                </a:moveTo>
                <a:cubicBezTo>
                  <a:pt x="21235" y="8434"/>
                  <a:pt x="21256" y="8444"/>
                  <a:pt x="21307" y="8409"/>
                </a:cubicBezTo>
              </a:path>
              <a:path w="993" h="5160">
                <a:moveTo>
                  <a:pt x="21580" y="11038"/>
                </a:moveTo>
                <a:cubicBezTo>
                  <a:pt x="21668" y="11021"/>
                  <a:pt x="21710" y="10980"/>
                  <a:pt x="21729" y="1103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6920" y="1901880"/>
            <a:ext cx="1500120" cy="2305080"/>
          </a:xfrm>
          <a:custGeom>
            <a:avLst/>
            <a:gdLst/>
            <a:ahLst/>
            <a:rect l="l" t="t" r="r" b="b"/>
            <a:pathLst>
              <a:path w="4168" h="6401">
                <a:moveTo>
                  <a:pt x="19968" y="5283"/>
                </a:moveTo>
                <a:cubicBezTo>
                  <a:pt x="20065" y="5658"/>
                  <a:pt x="20104" y="6056"/>
                  <a:pt x="20216" y="6424"/>
                </a:cubicBezTo>
                <a:cubicBezTo>
                  <a:pt x="20253" y="6481"/>
                  <a:pt x="20270" y="6484"/>
                  <a:pt x="20265" y="6524"/>
                </a:cubicBezTo>
                <a:cubicBezTo>
                  <a:pt x="20265" y="6187"/>
                  <a:pt x="20300" y="5876"/>
                  <a:pt x="20414" y="5556"/>
                </a:cubicBezTo>
                <a:cubicBezTo>
                  <a:pt x="20493" y="5397"/>
                  <a:pt x="20502" y="5368"/>
                  <a:pt x="20563" y="5283"/>
                </a:cubicBezTo>
              </a:path>
              <a:path w="4168" h="6401">
                <a:moveTo>
                  <a:pt x="20687" y="5829"/>
                </a:moveTo>
                <a:cubicBezTo>
                  <a:pt x="20814" y="5761"/>
                  <a:pt x="20942" y="5712"/>
                  <a:pt x="21084" y="5680"/>
                </a:cubicBezTo>
              </a:path>
              <a:path w="4168" h="6401">
                <a:moveTo>
                  <a:pt x="19521" y="7169"/>
                </a:moveTo>
                <a:cubicBezTo>
                  <a:pt x="19601" y="7075"/>
                  <a:pt x="19727" y="7038"/>
                  <a:pt x="19794" y="7193"/>
                </a:cubicBezTo>
                <a:cubicBezTo>
                  <a:pt x="19903" y="7448"/>
                  <a:pt x="19680" y="7658"/>
                  <a:pt x="19447" y="7689"/>
                </a:cubicBezTo>
                <a:cubicBezTo>
                  <a:pt x="19406" y="7681"/>
                  <a:pt x="19364" y="7673"/>
                  <a:pt x="19323" y="7665"/>
                </a:cubicBezTo>
                <a:cubicBezTo>
                  <a:pt x="19323" y="7501"/>
                  <a:pt x="19402" y="7357"/>
                  <a:pt x="19621" y="7417"/>
                </a:cubicBezTo>
                <a:cubicBezTo>
                  <a:pt x="19725" y="7446"/>
                  <a:pt x="19776" y="7724"/>
                  <a:pt x="19844" y="7640"/>
                </a:cubicBezTo>
                <a:cubicBezTo>
                  <a:pt x="19844" y="7623"/>
                  <a:pt x="19844" y="7607"/>
                  <a:pt x="19844" y="7590"/>
                </a:cubicBezTo>
              </a:path>
              <a:path w="4168" h="6401">
                <a:moveTo>
                  <a:pt x="19993" y="7144"/>
                </a:moveTo>
                <a:cubicBezTo>
                  <a:pt x="19993" y="7227"/>
                  <a:pt x="19993" y="7309"/>
                  <a:pt x="19993" y="7392"/>
                </a:cubicBezTo>
                <a:cubicBezTo>
                  <a:pt x="20114" y="7445"/>
                  <a:pt x="20181" y="7385"/>
                  <a:pt x="20290" y="7317"/>
                </a:cubicBezTo>
              </a:path>
              <a:path w="4168" h="6401">
                <a:moveTo>
                  <a:pt x="20191" y="7020"/>
                </a:moveTo>
                <a:cubicBezTo>
                  <a:pt x="20213" y="7193"/>
                  <a:pt x="20251" y="7367"/>
                  <a:pt x="20265" y="7541"/>
                </a:cubicBezTo>
                <a:cubicBezTo>
                  <a:pt x="20265" y="7624"/>
                  <a:pt x="20265" y="7673"/>
                  <a:pt x="20265" y="7590"/>
                </a:cubicBezTo>
              </a:path>
              <a:path w="4168" h="6401">
                <a:moveTo>
                  <a:pt x="20563" y="7045"/>
                </a:moveTo>
                <a:cubicBezTo>
                  <a:pt x="20502" y="7118"/>
                  <a:pt x="20412" y="7370"/>
                  <a:pt x="20464" y="7491"/>
                </a:cubicBezTo>
                <a:cubicBezTo>
                  <a:pt x="20489" y="7508"/>
                  <a:pt x="20513" y="7524"/>
                  <a:pt x="20538" y="7541"/>
                </a:cubicBezTo>
                <a:cubicBezTo>
                  <a:pt x="20741" y="7470"/>
                  <a:pt x="20910" y="7381"/>
                  <a:pt x="20737" y="7144"/>
                </a:cubicBezTo>
                <a:cubicBezTo>
                  <a:pt x="20658" y="7035"/>
                  <a:pt x="20570" y="7053"/>
                  <a:pt x="20464" y="7069"/>
                </a:cubicBezTo>
              </a:path>
              <a:path w="4168" h="6401">
                <a:moveTo>
                  <a:pt x="20960" y="8235"/>
                </a:moveTo>
                <a:cubicBezTo>
                  <a:pt x="21043" y="8235"/>
                  <a:pt x="21125" y="8235"/>
                  <a:pt x="21208" y="8235"/>
                </a:cubicBezTo>
              </a:path>
              <a:path w="4168" h="6401">
                <a:moveTo>
                  <a:pt x="19496" y="8384"/>
                </a:moveTo>
                <a:cubicBezTo>
                  <a:pt x="19627" y="8266"/>
                  <a:pt x="19860" y="8243"/>
                  <a:pt x="19869" y="8508"/>
                </a:cubicBezTo>
                <a:cubicBezTo>
                  <a:pt x="19878" y="8799"/>
                  <a:pt x="19632" y="8877"/>
                  <a:pt x="19422" y="8830"/>
                </a:cubicBezTo>
                <a:cubicBezTo>
                  <a:pt x="19489" y="8629"/>
                  <a:pt x="19669" y="8602"/>
                  <a:pt x="19893" y="8682"/>
                </a:cubicBezTo>
                <a:cubicBezTo>
                  <a:pt x="19938" y="8726"/>
                  <a:pt x="19955" y="8736"/>
                  <a:pt x="19943" y="8781"/>
                </a:cubicBezTo>
              </a:path>
              <a:path w="4168" h="6401">
                <a:moveTo>
                  <a:pt x="19968" y="8334"/>
                </a:moveTo>
                <a:cubicBezTo>
                  <a:pt x="19968" y="8398"/>
                  <a:pt x="19969" y="8478"/>
                  <a:pt x="19993" y="8533"/>
                </a:cubicBezTo>
                <a:cubicBezTo>
                  <a:pt x="20043" y="8646"/>
                  <a:pt x="20234" y="8493"/>
                  <a:pt x="20265" y="8434"/>
                </a:cubicBezTo>
                <a:cubicBezTo>
                  <a:pt x="20265" y="8417"/>
                  <a:pt x="20265" y="8401"/>
                  <a:pt x="20265" y="8384"/>
                </a:cubicBezTo>
              </a:path>
              <a:path w="4168" h="6401">
                <a:moveTo>
                  <a:pt x="20117" y="8210"/>
                </a:moveTo>
                <a:cubicBezTo>
                  <a:pt x="20173" y="8371"/>
                  <a:pt x="20202" y="8541"/>
                  <a:pt x="20241" y="8706"/>
                </a:cubicBezTo>
                <a:cubicBezTo>
                  <a:pt x="20241" y="8714"/>
                  <a:pt x="20241" y="8723"/>
                  <a:pt x="20241" y="8731"/>
                </a:cubicBezTo>
              </a:path>
              <a:path w="4168" h="6401">
                <a:moveTo>
                  <a:pt x="20588" y="8260"/>
                </a:moveTo>
                <a:cubicBezTo>
                  <a:pt x="20543" y="8260"/>
                  <a:pt x="20508" y="8279"/>
                  <a:pt x="20489" y="8334"/>
                </a:cubicBezTo>
                <a:cubicBezTo>
                  <a:pt x="20450" y="8447"/>
                  <a:pt x="20464" y="8524"/>
                  <a:pt x="20489" y="8632"/>
                </a:cubicBezTo>
                <a:cubicBezTo>
                  <a:pt x="20654" y="8651"/>
                  <a:pt x="20868" y="8666"/>
                  <a:pt x="20811" y="8434"/>
                </a:cubicBezTo>
                <a:cubicBezTo>
                  <a:pt x="20761" y="8231"/>
                  <a:pt x="20582" y="8299"/>
                  <a:pt x="20439" y="8334"/>
                </a:cubicBezTo>
              </a:path>
              <a:path w="4168" h="6401">
                <a:moveTo>
                  <a:pt x="21530" y="8186"/>
                </a:moveTo>
                <a:cubicBezTo>
                  <a:pt x="21639" y="8165"/>
                  <a:pt x="21815" y="8113"/>
                  <a:pt x="21754" y="8310"/>
                </a:cubicBezTo>
                <a:cubicBezTo>
                  <a:pt x="21704" y="8384"/>
                  <a:pt x="21687" y="8409"/>
                  <a:pt x="21630" y="8434"/>
                </a:cubicBezTo>
                <a:cubicBezTo>
                  <a:pt x="21691" y="8418"/>
                  <a:pt x="21853" y="8346"/>
                  <a:pt x="21878" y="8458"/>
                </a:cubicBezTo>
                <a:cubicBezTo>
                  <a:pt x="21910" y="8598"/>
                  <a:pt x="21619" y="8854"/>
                  <a:pt x="21530" y="8682"/>
                </a:cubicBezTo>
                <a:cubicBezTo>
                  <a:pt x="21530" y="8641"/>
                  <a:pt x="21530" y="8599"/>
                  <a:pt x="21530" y="8558"/>
                </a:cubicBezTo>
              </a:path>
              <a:path w="4168" h="6401">
                <a:moveTo>
                  <a:pt x="22349" y="8186"/>
                </a:moveTo>
                <a:cubicBezTo>
                  <a:pt x="22218" y="8290"/>
                  <a:pt x="22243" y="8472"/>
                  <a:pt x="22250" y="8632"/>
                </a:cubicBezTo>
                <a:cubicBezTo>
                  <a:pt x="22420" y="8657"/>
                  <a:pt x="22723" y="8604"/>
                  <a:pt x="22547" y="8334"/>
                </a:cubicBezTo>
                <a:cubicBezTo>
                  <a:pt x="22451" y="8186"/>
                  <a:pt x="22335" y="8233"/>
                  <a:pt x="22200" y="8260"/>
                </a:cubicBezTo>
              </a:path>
              <a:path w="4168" h="6401">
                <a:moveTo>
                  <a:pt x="22671" y="8136"/>
                </a:moveTo>
                <a:cubicBezTo>
                  <a:pt x="22733" y="8271"/>
                  <a:pt x="22781" y="8390"/>
                  <a:pt x="22820" y="8533"/>
                </a:cubicBezTo>
                <a:cubicBezTo>
                  <a:pt x="22838" y="8459"/>
                  <a:pt x="22859" y="8361"/>
                  <a:pt x="22895" y="8285"/>
                </a:cubicBezTo>
                <a:cubicBezTo>
                  <a:pt x="22951" y="8168"/>
                  <a:pt x="23041" y="8424"/>
                  <a:pt x="23044" y="8434"/>
                </a:cubicBezTo>
                <a:cubicBezTo>
                  <a:pt x="23097" y="8616"/>
                  <a:pt x="23255" y="8619"/>
                  <a:pt x="23416" y="8533"/>
                </a:cubicBezTo>
                <a:cubicBezTo>
                  <a:pt x="23432" y="8516"/>
                  <a:pt x="23449" y="8500"/>
                  <a:pt x="23465" y="8483"/>
                </a:cubicBezTo>
              </a:path>
              <a:path w="4168" h="6401">
                <a:moveTo>
                  <a:pt x="21406" y="8979"/>
                </a:moveTo>
                <a:cubicBezTo>
                  <a:pt x="21943" y="8914"/>
                  <a:pt x="22481" y="8857"/>
                  <a:pt x="23019" y="8806"/>
                </a:cubicBezTo>
                <a:cubicBezTo>
                  <a:pt x="23131" y="8795"/>
                  <a:pt x="23372" y="8750"/>
                  <a:pt x="23391" y="8806"/>
                </a:cubicBezTo>
              </a:path>
              <a:path w="4168" h="6401">
                <a:moveTo>
                  <a:pt x="21803" y="9153"/>
                </a:moveTo>
                <a:cubicBezTo>
                  <a:pt x="21896" y="9141"/>
                  <a:pt x="22040" y="9022"/>
                  <a:pt x="22126" y="9103"/>
                </a:cubicBezTo>
                <a:cubicBezTo>
                  <a:pt x="22191" y="9164"/>
                  <a:pt x="22035" y="9269"/>
                  <a:pt x="22002" y="9302"/>
                </a:cubicBezTo>
                <a:cubicBezTo>
                  <a:pt x="22104" y="9276"/>
                  <a:pt x="22139" y="9269"/>
                  <a:pt x="22200" y="9327"/>
                </a:cubicBezTo>
                <a:cubicBezTo>
                  <a:pt x="22161" y="9431"/>
                  <a:pt x="22019" y="9696"/>
                  <a:pt x="21853" y="9575"/>
                </a:cubicBezTo>
                <a:cubicBezTo>
                  <a:pt x="21853" y="9472"/>
                  <a:pt x="21870" y="9425"/>
                  <a:pt x="21952" y="9376"/>
                </a:cubicBezTo>
              </a:path>
              <a:path w="4168" h="6401">
                <a:moveTo>
                  <a:pt x="22696" y="9054"/>
                </a:moveTo>
                <a:cubicBezTo>
                  <a:pt x="22593" y="9122"/>
                  <a:pt x="22498" y="9312"/>
                  <a:pt x="22547" y="9451"/>
                </a:cubicBezTo>
                <a:cubicBezTo>
                  <a:pt x="22572" y="9476"/>
                  <a:pt x="22597" y="9500"/>
                  <a:pt x="22622" y="9525"/>
                </a:cubicBezTo>
                <a:cubicBezTo>
                  <a:pt x="22731" y="9440"/>
                  <a:pt x="22992" y="9179"/>
                  <a:pt x="22671" y="9103"/>
                </a:cubicBezTo>
                <a:cubicBezTo>
                  <a:pt x="22544" y="9121"/>
                  <a:pt x="22519" y="9163"/>
                  <a:pt x="22473" y="9103"/>
                </a:cubicBezTo>
              </a:path>
              <a:path w="4168" h="6401">
                <a:moveTo>
                  <a:pt x="19794" y="9054"/>
                </a:moveTo>
                <a:cubicBezTo>
                  <a:pt x="20158" y="9014"/>
                  <a:pt x="20524" y="8961"/>
                  <a:pt x="20886" y="8930"/>
                </a:cubicBezTo>
                <a:cubicBezTo>
                  <a:pt x="20894" y="8930"/>
                  <a:pt x="20902" y="8930"/>
                  <a:pt x="20910" y="8930"/>
                </a:cubicBezTo>
              </a:path>
              <a:path w="4168" h="6401">
                <a:moveTo>
                  <a:pt x="19893" y="9277"/>
                </a:moveTo>
                <a:cubicBezTo>
                  <a:pt x="20053" y="9220"/>
                  <a:pt x="20072" y="9178"/>
                  <a:pt x="20241" y="9227"/>
                </a:cubicBezTo>
                <a:cubicBezTo>
                  <a:pt x="20128" y="9416"/>
                  <a:pt x="20081" y="9387"/>
                  <a:pt x="20315" y="9426"/>
                </a:cubicBezTo>
                <a:cubicBezTo>
                  <a:pt x="20307" y="9567"/>
                  <a:pt x="20180" y="9888"/>
                  <a:pt x="19943" y="9798"/>
                </a:cubicBezTo>
                <a:cubicBezTo>
                  <a:pt x="19883" y="9679"/>
                  <a:pt x="19879" y="9627"/>
                  <a:pt x="19993" y="9550"/>
                </a:cubicBezTo>
              </a:path>
              <a:path w="4168" h="6401">
                <a:moveTo>
                  <a:pt x="20613" y="9252"/>
                </a:moveTo>
                <a:cubicBezTo>
                  <a:pt x="20542" y="9428"/>
                  <a:pt x="20508" y="9475"/>
                  <a:pt x="20563" y="9649"/>
                </a:cubicBezTo>
                <a:cubicBezTo>
                  <a:pt x="20696" y="9617"/>
                  <a:pt x="21051" y="9450"/>
                  <a:pt x="20811" y="9252"/>
                </a:cubicBezTo>
                <a:cubicBezTo>
                  <a:pt x="20679" y="9209"/>
                  <a:pt x="20647" y="9197"/>
                  <a:pt x="20563" y="9178"/>
                </a:cubicBezTo>
              </a:path>
              <a:path w="4168" h="6401">
                <a:moveTo>
                  <a:pt x="21927" y="7938"/>
                </a:moveTo>
                <a:cubicBezTo>
                  <a:pt x="21898" y="8059"/>
                  <a:pt x="21898" y="8135"/>
                  <a:pt x="21903" y="8260"/>
                </a:cubicBezTo>
                <a:cubicBezTo>
                  <a:pt x="21920" y="8707"/>
                  <a:pt x="21990" y="9152"/>
                  <a:pt x="22002" y="9599"/>
                </a:cubicBezTo>
                <a:cubicBezTo>
                  <a:pt x="22003" y="9632"/>
                  <a:pt x="22002" y="9616"/>
                  <a:pt x="22002" y="9649"/>
                </a:cubicBezTo>
                <a:cubicBezTo>
                  <a:pt x="22002" y="9563"/>
                  <a:pt x="21998" y="9474"/>
                  <a:pt x="22027" y="9426"/>
                </a:cubicBezTo>
              </a:path>
              <a:path w="4168" h="6401">
                <a:moveTo>
                  <a:pt x="22126" y="10393"/>
                </a:moveTo>
                <a:cubicBezTo>
                  <a:pt x="22153" y="10607"/>
                  <a:pt x="22174" y="10823"/>
                  <a:pt x="22200" y="11038"/>
                </a:cubicBezTo>
                <a:cubicBezTo>
                  <a:pt x="22210" y="11120"/>
                  <a:pt x="22217" y="11154"/>
                  <a:pt x="22225" y="11237"/>
                </a:cubicBezTo>
                <a:cubicBezTo>
                  <a:pt x="22258" y="11112"/>
                  <a:pt x="22257" y="10922"/>
                  <a:pt x="22374" y="10840"/>
                </a:cubicBezTo>
                <a:cubicBezTo>
                  <a:pt x="22509" y="10746"/>
                  <a:pt x="22584" y="10942"/>
                  <a:pt x="22597" y="11038"/>
                </a:cubicBezTo>
                <a:cubicBezTo>
                  <a:pt x="22597" y="11155"/>
                  <a:pt x="22595" y="11189"/>
                  <a:pt x="22622" y="11261"/>
                </a:cubicBezTo>
                <a:cubicBezTo>
                  <a:pt x="22731" y="11272"/>
                  <a:pt x="22793" y="11219"/>
                  <a:pt x="22895" y="11162"/>
                </a:cubicBezTo>
              </a:path>
              <a:path w="4168" h="6401">
                <a:moveTo>
                  <a:pt x="21406" y="10790"/>
                </a:moveTo>
                <a:cubicBezTo>
                  <a:pt x="21508" y="10775"/>
                  <a:pt x="21600" y="10765"/>
                  <a:pt x="21704" y="10765"/>
                </a:cubicBezTo>
              </a:path>
              <a:path w="4168" h="6401">
                <a:moveTo>
                  <a:pt x="20737" y="10716"/>
                </a:moveTo>
                <a:cubicBezTo>
                  <a:pt x="20609" y="10716"/>
                  <a:pt x="20633" y="10632"/>
                  <a:pt x="20464" y="10691"/>
                </a:cubicBezTo>
                <a:cubicBezTo>
                  <a:pt x="20373" y="10723"/>
                  <a:pt x="20304" y="10788"/>
                  <a:pt x="20265" y="10864"/>
                </a:cubicBezTo>
                <a:cubicBezTo>
                  <a:pt x="20500" y="10987"/>
                  <a:pt x="20653" y="11021"/>
                  <a:pt x="20762" y="11261"/>
                </a:cubicBezTo>
                <a:cubicBezTo>
                  <a:pt x="20687" y="11331"/>
                  <a:pt x="20421" y="11502"/>
                  <a:pt x="20439" y="11237"/>
                </a:cubicBezTo>
                <a:cubicBezTo>
                  <a:pt x="20453" y="11039"/>
                  <a:pt x="20657" y="10961"/>
                  <a:pt x="20712" y="10790"/>
                </a:cubicBezTo>
                <a:cubicBezTo>
                  <a:pt x="20751" y="10668"/>
                  <a:pt x="20625" y="10708"/>
                  <a:pt x="20563" y="10716"/>
                </a:cubicBezTo>
                <a:cubicBezTo>
                  <a:pt x="20555" y="10716"/>
                  <a:pt x="20546" y="10716"/>
                  <a:pt x="20538" y="10716"/>
                </a:cubicBezTo>
              </a:path>
              <a:path w="4168" h="6401">
                <a:moveTo>
                  <a:pt x="21183" y="10964"/>
                </a:moveTo>
                <a:cubicBezTo>
                  <a:pt x="21183" y="10885"/>
                  <a:pt x="21171" y="10822"/>
                  <a:pt x="21084" y="10790"/>
                </a:cubicBezTo>
                <a:cubicBezTo>
                  <a:pt x="21018" y="10790"/>
                  <a:pt x="21001" y="10790"/>
                  <a:pt x="20960" y="10790"/>
                </a:cubicBezTo>
                <a:cubicBezTo>
                  <a:pt x="20903" y="11016"/>
                  <a:pt x="21010" y="11210"/>
                  <a:pt x="21059" y="11435"/>
                </a:cubicBezTo>
                <a:cubicBezTo>
                  <a:pt x="21080" y="11529"/>
                  <a:pt x="21084" y="11593"/>
                  <a:pt x="21084" y="11683"/>
                </a:cubicBezTo>
              </a:path>
              <a:path w="4168" h="6401">
                <a:moveTo>
                  <a:pt x="20886" y="11311"/>
                </a:moveTo>
                <a:cubicBezTo>
                  <a:pt x="21002" y="11311"/>
                  <a:pt x="21117" y="11311"/>
                  <a:pt x="21233" y="11311"/>
                </a:cubicBezTo>
              </a:path>
              <a:path w="4168" h="6401">
                <a:moveTo>
                  <a:pt x="21258" y="11038"/>
                </a:moveTo>
                <a:cubicBezTo>
                  <a:pt x="21258" y="10937"/>
                  <a:pt x="21280" y="11185"/>
                  <a:pt x="21282" y="11286"/>
                </a:cubicBezTo>
                <a:cubicBezTo>
                  <a:pt x="21284" y="11404"/>
                  <a:pt x="21215" y="11663"/>
                  <a:pt x="21406" y="11683"/>
                </a:cubicBezTo>
                <a:cubicBezTo>
                  <a:pt x="21447" y="11687"/>
                  <a:pt x="21544" y="11644"/>
                  <a:pt x="21555" y="11633"/>
                </a:cubicBezTo>
              </a:path>
              <a:path w="4168" h="6401">
                <a:moveTo>
                  <a:pt x="21134" y="11385"/>
                </a:moveTo>
                <a:cubicBezTo>
                  <a:pt x="21232" y="11330"/>
                  <a:pt x="21342" y="11317"/>
                  <a:pt x="21456" y="11311"/>
                </a:cubicBezTo>
                <a:cubicBezTo>
                  <a:pt x="21464" y="11311"/>
                  <a:pt x="21473" y="11311"/>
                  <a:pt x="21481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1795320"/>
            <a:ext cx="866880" cy="527040"/>
          </a:xfrm>
          <a:custGeom>
            <a:avLst/>
            <a:gdLst/>
            <a:ahLst/>
            <a:rect l="l" t="t" r="r" b="b"/>
            <a:pathLst>
              <a:path w="2407" h="1464">
                <a:moveTo>
                  <a:pt x="21357" y="4986"/>
                </a:moveTo>
                <a:cubicBezTo>
                  <a:pt x="21474" y="5363"/>
                  <a:pt x="21574" y="5731"/>
                  <a:pt x="21605" y="6127"/>
                </a:cubicBezTo>
                <a:cubicBezTo>
                  <a:pt x="21605" y="6235"/>
                  <a:pt x="21564" y="6284"/>
                  <a:pt x="21630" y="6276"/>
                </a:cubicBezTo>
              </a:path>
              <a:path w="2407" h="1464">
                <a:moveTo>
                  <a:pt x="21927" y="5779"/>
                </a:moveTo>
                <a:cubicBezTo>
                  <a:pt x="21951" y="5967"/>
                  <a:pt x="21925" y="6263"/>
                  <a:pt x="22027" y="6424"/>
                </a:cubicBezTo>
                <a:cubicBezTo>
                  <a:pt x="22052" y="6432"/>
                  <a:pt x="22076" y="6441"/>
                  <a:pt x="22101" y="6449"/>
                </a:cubicBezTo>
                <a:cubicBezTo>
                  <a:pt x="22221" y="6282"/>
                  <a:pt x="22252" y="6185"/>
                  <a:pt x="22275" y="5978"/>
                </a:cubicBezTo>
                <a:cubicBezTo>
                  <a:pt x="22294" y="6135"/>
                  <a:pt x="22275" y="6294"/>
                  <a:pt x="22473" y="6350"/>
                </a:cubicBezTo>
                <a:cubicBezTo>
                  <a:pt x="22842" y="6454"/>
                  <a:pt x="22813" y="6022"/>
                  <a:pt x="22671" y="5829"/>
                </a:cubicBezTo>
                <a:cubicBezTo>
                  <a:pt x="22486" y="5577"/>
                  <a:pt x="22352" y="5798"/>
                  <a:pt x="22572" y="5531"/>
                </a:cubicBezTo>
              </a:path>
              <a:path w="2407" h="1464">
                <a:moveTo>
                  <a:pt x="22944" y="5085"/>
                </a:moveTo>
                <a:cubicBezTo>
                  <a:pt x="23037" y="5464"/>
                  <a:pt x="23125" y="5838"/>
                  <a:pt x="23168" y="6226"/>
                </a:cubicBezTo>
                <a:cubicBezTo>
                  <a:pt x="23168" y="6243"/>
                  <a:pt x="23168" y="6259"/>
                  <a:pt x="23168" y="6276"/>
                </a:cubicBezTo>
                <a:cubicBezTo>
                  <a:pt x="23182" y="6021"/>
                  <a:pt x="23185" y="5780"/>
                  <a:pt x="23366" y="5581"/>
                </a:cubicBezTo>
                <a:cubicBezTo>
                  <a:pt x="23391" y="5573"/>
                  <a:pt x="23415" y="5564"/>
                  <a:pt x="23440" y="5556"/>
                </a:cubicBezTo>
                <a:cubicBezTo>
                  <a:pt x="23531" y="5773"/>
                  <a:pt x="23473" y="6053"/>
                  <a:pt x="23589" y="6251"/>
                </a:cubicBezTo>
                <a:cubicBezTo>
                  <a:pt x="23667" y="6302"/>
                  <a:pt x="23696" y="6318"/>
                  <a:pt x="23763" y="62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7960" y="2463840"/>
            <a:ext cx="1170000" cy="349200"/>
          </a:xfrm>
          <a:custGeom>
            <a:avLst/>
            <a:gdLst/>
            <a:ahLst/>
            <a:rect l="l" t="t" r="r" b="b"/>
            <a:pathLst>
              <a:path w="3251" h="968">
                <a:moveTo>
                  <a:pt x="20960" y="7045"/>
                </a:moveTo>
                <a:cubicBezTo>
                  <a:pt x="21064" y="7045"/>
                  <a:pt x="21156" y="7038"/>
                  <a:pt x="21258" y="7020"/>
                </a:cubicBezTo>
              </a:path>
              <a:path w="3251" h="968">
                <a:moveTo>
                  <a:pt x="20910" y="7293"/>
                </a:moveTo>
                <a:cubicBezTo>
                  <a:pt x="21020" y="7285"/>
                  <a:pt x="21124" y="7259"/>
                  <a:pt x="21233" y="7243"/>
                </a:cubicBezTo>
              </a:path>
              <a:path w="3251" h="968">
                <a:moveTo>
                  <a:pt x="21605" y="6995"/>
                </a:moveTo>
                <a:cubicBezTo>
                  <a:pt x="21629" y="7185"/>
                  <a:pt x="21638" y="7350"/>
                  <a:pt x="21630" y="7541"/>
                </a:cubicBezTo>
                <a:cubicBezTo>
                  <a:pt x="21630" y="7566"/>
                  <a:pt x="21630" y="7590"/>
                  <a:pt x="21630" y="7615"/>
                </a:cubicBezTo>
              </a:path>
              <a:path w="3251" h="968">
                <a:moveTo>
                  <a:pt x="21927" y="7094"/>
                </a:moveTo>
                <a:cubicBezTo>
                  <a:pt x="21870" y="7235"/>
                  <a:pt x="21744" y="7502"/>
                  <a:pt x="21878" y="7640"/>
                </a:cubicBezTo>
                <a:cubicBezTo>
                  <a:pt x="22069" y="7837"/>
                  <a:pt x="22203" y="7437"/>
                  <a:pt x="22175" y="7317"/>
                </a:cubicBezTo>
                <a:cubicBezTo>
                  <a:pt x="22155" y="7230"/>
                  <a:pt x="22079" y="7164"/>
                  <a:pt x="22002" y="7144"/>
                </a:cubicBezTo>
              </a:path>
              <a:path w="3251" h="968">
                <a:moveTo>
                  <a:pt x="22448" y="6921"/>
                </a:moveTo>
                <a:cubicBezTo>
                  <a:pt x="22448" y="7082"/>
                  <a:pt x="22374" y="7226"/>
                  <a:pt x="22374" y="7392"/>
                </a:cubicBezTo>
                <a:cubicBezTo>
                  <a:pt x="22374" y="7504"/>
                  <a:pt x="22462" y="7816"/>
                  <a:pt x="22647" y="7764"/>
                </a:cubicBezTo>
                <a:cubicBezTo>
                  <a:pt x="22655" y="7747"/>
                  <a:pt x="22663" y="7731"/>
                  <a:pt x="22671" y="7714"/>
                </a:cubicBezTo>
              </a:path>
              <a:path w="3251" h="968">
                <a:moveTo>
                  <a:pt x="22647" y="7094"/>
                </a:moveTo>
                <a:cubicBezTo>
                  <a:pt x="22723" y="7086"/>
                  <a:pt x="22775" y="7080"/>
                  <a:pt x="22845" y="7094"/>
                </a:cubicBezTo>
                <a:cubicBezTo>
                  <a:pt x="22882" y="7166"/>
                  <a:pt x="22813" y="7242"/>
                  <a:pt x="22746" y="7317"/>
                </a:cubicBezTo>
                <a:cubicBezTo>
                  <a:pt x="22810" y="7280"/>
                  <a:pt x="22906" y="7267"/>
                  <a:pt x="22944" y="7367"/>
                </a:cubicBezTo>
                <a:cubicBezTo>
                  <a:pt x="22980" y="7462"/>
                  <a:pt x="22911" y="7631"/>
                  <a:pt x="22796" y="7565"/>
                </a:cubicBezTo>
                <a:cubicBezTo>
                  <a:pt x="22779" y="7549"/>
                  <a:pt x="22763" y="7532"/>
                  <a:pt x="22746" y="7516"/>
                </a:cubicBezTo>
              </a:path>
              <a:path w="3251" h="968">
                <a:moveTo>
                  <a:pt x="22895" y="6871"/>
                </a:moveTo>
                <a:cubicBezTo>
                  <a:pt x="22991" y="6852"/>
                  <a:pt x="23180" y="7069"/>
                  <a:pt x="23242" y="7169"/>
                </a:cubicBezTo>
                <a:cubicBezTo>
                  <a:pt x="23385" y="7399"/>
                  <a:pt x="23311" y="7588"/>
                  <a:pt x="23168" y="7789"/>
                </a:cubicBezTo>
                <a:cubicBezTo>
                  <a:pt x="23145" y="7811"/>
                  <a:pt x="23140" y="7819"/>
                  <a:pt x="23118" y="7813"/>
                </a:cubicBezTo>
              </a:path>
              <a:path w="3251" h="968">
                <a:moveTo>
                  <a:pt x="23316" y="6970"/>
                </a:moveTo>
                <a:cubicBezTo>
                  <a:pt x="23407" y="7060"/>
                  <a:pt x="23523" y="7259"/>
                  <a:pt x="23589" y="7392"/>
                </a:cubicBezTo>
                <a:cubicBezTo>
                  <a:pt x="23608" y="7449"/>
                  <a:pt x="23617" y="7456"/>
                  <a:pt x="23614" y="7491"/>
                </a:cubicBezTo>
                <a:cubicBezTo>
                  <a:pt x="23614" y="7379"/>
                  <a:pt x="23597" y="7310"/>
                  <a:pt x="23664" y="7218"/>
                </a:cubicBezTo>
                <a:cubicBezTo>
                  <a:pt x="23710" y="7172"/>
                  <a:pt x="23722" y="7158"/>
                  <a:pt x="23763" y="7144"/>
                </a:cubicBezTo>
                <a:cubicBezTo>
                  <a:pt x="23863" y="7230"/>
                  <a:pt x="23848" y="7323"/>
                  <a:pt x="23887" y="7441"/>
                </a:cubicBezTo>
                <a:cubicBezTo>
                  <a:pt x="23916" y="7529"/>
                  <a:pt x="24076" y="7708"/>
                  <a:pt x="24160" y="7541"/>
                </a:cubicBezTo>
                <a:cubicBezTo>
                  <a:pt x="24135" y="7491"/>
                  <a:pt x="24127" y="7474"/>
                  <a:pt x="24085" y="74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20:31:56Z</dcterms:created>
  <dc:creator>paander</dc:creator>
  <dc:description/>
  <dc:language>en-US</dc:language>
  <cp:lastModifiedBy>demcgra</cp:lastModifiedBy>
  <dcterms:modified xsi:type="dcterms:W3CDTF">2012-05-31T13:30:38Z</dcterms:modified>
  <cp:revision>11</cp:revision>
  <dc:subject/>
  <dc:title>Volume of a Right Rectangular Prism</dc:title>
</cp:coreProperties>
</file>